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5A11F-6EA0-48AF-9F52-78CE6A286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4EC67-4AE1-479B-9EFB-DD0F6B224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3F06E-3985-4563-BF24-E3680DA58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17E9B-84CD-4F88-B931-ACB4210D9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4E6F9-E2EE-4530-8CC5-FF5616DB3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B2DEF-89F9-49C7-B9FC-65F8E17F6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20F98-95CA-43A1-A97A-A43522816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71C50-5D85-4EF5-AC9B-4C2FE5B39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80068-82CF-4381-876C-E2A104DA3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8D32C-9369-4D2B-9932-497D998F1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21B55-7C00-40C8-9D08-08BB5E5D0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54FA8-E7B6-488B-A8AD-112629B7E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A1262-1C11-41A4-BB7C-2B68A07F846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2</cp:lastModifiedBy>
  <dcterms:modified xsi:type="dcterms:W3CDTF">2013-08-30T08:28:15Z</dcterms:modified>
  <cp:revision>3</cp:revision>
  <dc:subject/>
  <dc:title>Test content</dc:title>
</cp:coreProperties>
</file>