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3F630-23BD-4B9A-A2CE-AAE8E49F0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7C07A-DA34-4463-B46D-2EDBBB958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CFDE2-8343-4B28-84DD-02513D917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5507E-7575-4867-918B-6AE4F1859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A5575-AB36-4C81-BA4C-2745A201E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2A7BE-59D1-40DB-B9E9-ED8484D22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49AFC-15CE-4B6D-8E49-5E77F161D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F060A-3D79-4182-B438-39AE194D7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F5951-E289-4BCC-A8C5-061824A15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4FC78-E0B8-4E6A-81B2-947F5D7B8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84526-1B44-4D65-9632-1C1E1AD2C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0B66B-24DE-41B9-A88D-EFE80AC17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93E94-6868-4E76-A7BD-0CE3D9EEB45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28Z</dcterms:modified>
  <cp:revision>5</cp:revision>
  <dc:subject/>
  <dc:title>Test content</dc:title>
</cp:coreProperties>
</file>