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406FA-6AF5-40B2-BF25-47D79F193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AEEDE-979B-4EFC-891F-BFAE5BF1C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631A4-112C-4482-B272-D297BDDDC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676CA-09E3-48D3-8E41-C55F643A9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D7621-39A9-4162-91FB-927012597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36EFE-66F0-49FD-8218-9AA184319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CF26C-D05C-48F4-BC4D-65FC3C21A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5F5E1-82F2-4AB7-BF76-70080DC04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333F9-77DB-486C-9C44-834FB93F0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BAE81-121F-40A4-A79A-7498DA6FE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F9F9E-3470-457F-9EC6-570F7266A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9269F-9387-4D7E-8184-7ADDEC1CC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BDFBB-59F0-475E-9EB1-A7E90B80F1D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09Z</dcterms:modified>
  <cp:revision>4</cp:revision>
  <dc:subject/>
  <dc:title>Test content</dc:title>
</cp:coreProperties>
</file>