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47.png" ContentType="image/png"/>
  <Override PartName="/ppt/media/image10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35.png" ContentType="image/png"/>
  <Override PartName="/ppt/media/image26.png" ContentType="image/png"/>
  <Override PartName="/ppt/media/image63.png" ContentType="image/png"/>
  <Override PartName="/ppt/media/image28.png" ContentType="image/png"/>
  <Override PartName="/ppt/media/image25.png" ContentType="image/png"/>
  <Override PartName="/ppt/media/image62.png" ContentType="image/png"/>
  <Override PartName="/ppt/media/image61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20.png" ContentType="image/png"/>
  <Override PartName="/ppt/media/image57.png" ContentType="image/png"/>
  <Override PartName="/ppt/media/image5.png" ContentType="image/png"/>
  <Override PartName="/ppt/media/image1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1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notesMasterIdLst>
    <p:notesMasterId r:id="rId28"/>
  </p:notes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  <p:sldId id="265" r:id="rId38"/>
    <p:sldId id="266" r:id="rId39"/>
    <p:sldId id="267" r:id="rId40"/>
    <p:sldId id="268" r:id="rId41"/>
    <p:sldId id="269" r:id="rId42"/>
    <p:sldId id="270" r:id="rId43"/>
    <p:sldId id="271" r:id="rId44"/>
    <p:sldId id="272" r:id="rId45"/>
    <p:sldId id="273" r:id="rId46"/>
    <p:sldId id="274" r:id="rId47"/>
    <p:sldId id="275" r:id="rId48"/>
    <p:sldId id="276" r:id="rId49"/>
    <p:sldId id="277" r:id="rId50"/>
    <p:sldId id="278" r:id="rId51"/>
    <p:sldId id="279" r:id="rId52"/>
    <p:sldId id="280" r:id="rId53"/>
    <p:sldId id="281" r:id="rId54"/>
    <p:sldId id="282" r:id="rId55"/>
    <p:sldId id="283" r:id="rId56"/>
    <p:sldId id="284" r:id="rId57"/>
    <p:sldId id="285" r:id="rId58"/>
    <p:sldId id="286" r:id="rId59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notesMaster" Target="notesMasters/notesMaster1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slide" Target="slides/slide10.xml"/><Relationship Id="rId39" Type="http://schemas.openxmlformats.org/officeDocument/2006/relationships/slide" Target="slides/slide11.xml"/><Relationship Id="rId40" Type="http://schemas.openxmlformats.org/officeDocument/2006/relationships/slide" Target="slides/slide12.xml"/><Relationship Id="rId41" Type="http://schemas.openxmlformats.org/officeDocument/2006/relationships/slide" Target="slides/slide13.xml"/><Relationship Id="rId42" Type="http://schemas.openxmlformats.org/officeDocument/2006/relationships/slide" Target="slides/slide14.xml"/><Relationship Id="rId43" Type="http://schemas.openxmlformats.org/officeDocument/2006/relationships/slide" Target="slides/slide15.xml"/><Relationship Id="rId44" Type="http://schemas.openxmlformats.org/officeDocument/2006/relationships/slide" Target="slides/slide16.xml"/><Relationship Id="rId45" Type="http://schemas.openxmlformats.org/officeDocument/2006/relationships/slide" Target="slides/slide17.xml"/><Relationship Id="rId46" Type="http://schemas.openxmlformats.org/officeDocument/2006/relationships/slide" Target="slides/slide18.xml"/><Relationship Id="rId47" Type="http://schemas.openxmlformats.org/officeDocument/2006/relationships/slide" Target="slides/slide19.xml"/><Relationship Id="rId48" Type="http://schemas.openxmlformats.org/officeDocument/2006/relationships/slide" Target="slides/slide20.xml"/><Relationship Id="rId49" Type="http://schemas.openxmlformats.org/officeDocument/2006/relationships/slide" Target="slides/slide21.xml"/><Relationship Id="rId50" Type="http://schemas.openxmlformats.org/officeDocument/2006/relationships/slide" Target="slides/slide22.xml"/><Relationship Id="rId51" Type="http://schemas.openxmlformats.org/officeDocument/2006/relationships/slide" Target="slides/slide23.xml"/><Relationship Id="rId52" Type="http://schemas.openxmlformats.org/officeDocument/2006/relationships/slide" Target="slides/slide24.xml"/><Relationship Id="rId53" Type="http://schemas.openxmlformats.org/officeDocument/2006/relationships/slide" Target="slides/slide25.xml"/><Relationship Id="rId54" Type="http://schemas.openxmlformats.org/officeDocument/2006/relationships/slide" Target="slides/slide26.xml"/><Relationship Id="rId55" Type="http://schemas.openxmlformats.org/officeDocument/2006/relationships/slide" Target="slides/slide27.xml"/><Relationship Id="rId56" Type="http://schemas.openxmlformats.org/officeDocument/2006/relationships/slide" Target="slides/slide28.xml"/><Relationship Id="rId57" Type="http://schemas.openxmlformats.org/officeDocument/2006/relationships/slide" Target="slides/slide29.xml"/><Relationship Id="rId58" Type="http://schemas.openxmlformats.org/officeDocument/2006/relationships/slide" Target="slides/slide30.xml"/><Relationship Id="rId59" Type="http://schemas.openxmlformats.org/officeDocument/2006/relationships/slide" Target="slides/slide31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dt" idx="2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ftr" idx="2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6"/>
          <p:cNvSpPr>
            <a:spLocks noGrp="1"/>
          </p:cNvSpPr>
          <p:nvPr>
            <p:ph type="sldNum" idx="2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A7C1E30-6E26-48FE-8D01-265184A910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1F64CE2-FA03-4FB0-9020-2FD6FC64D04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37F493-0BF3-4B38-9086-4F9262E04F5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E874CFB-E984-4DA2-BB31-EBB42781E9F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0D820F-3C3A-4176-92CA-DF23C098749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DE88FB9-676D-42F0-9F61-B7A9F2A8265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92F657B-AD5B-4AB8-AD9E-C231251C9F8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38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EBB359-41EF-4C17-B7F1-DD486E912CB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2070475-F2DC-4621-BE3A-0098080EEA4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2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4C4878D-54CD-4E83-A040-2D489283EC0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0CC78C-62B7-4B14-A072-EEEC9BDAEF1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037B63-34D1-4D30-8F8F-493FE421486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E401B51-CBDE-45BB-B371-D6F8D61B731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4277F1C-73C4-4412-81AF-31F9BDDBA3C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38A6AA-F8E9-423A-BD13-42D3845BEE6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A5BB660-9888-4136-8EAC-4A8D0931B34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D7952D-08A1-4954-8335-7A08F4FCDFE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C74D335-BC75-4B0A-AB6C-B40C7FD14D2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B1DCA0F-5FB1-41F0-84D9-0E6E35AB2C6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FF9363-CBA4-43FA-927F-98BB94C90B3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reate new site and import WQS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doc lib, pointing out things of interest: website metadata, folder structure, collections, section template confi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dit the port number for the editorial site, and remove the “isEditorial” fla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the website: into each section – blogs l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ake a look at the data list(s) that have been created (empt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ost a comment to a blog post, show it appear in the data li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ack to site – show the comment on the blog page (including coun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oad a new image into the news section (Koala) – show the rendition definitions for the news s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ind a news article on the website and point out its image. In Share, edit the primary image of that article to be the Koala. Show the change on the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to Share. Add a tag or two to some news art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nto site: show the tags appear on the articles and the tag roll-up on the news landing p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nd a “contact us” requ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 contact us request in the data list and the workflow task in admin user’s task li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ublish section structure some example articles (blogs?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m appear in Share and on the “live”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EA80598-25D2-44B1-BEDF-CCCE7BC2E39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7F6B03-4D7C-49D2-B800-209C5B71053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3A0EE2E-129F-41E4-A3E9-8932AC473DD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FD2BA5-F3EB-4A47-9BB7-A665AC9B22B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CDAC087-A525-457F-A5BD-D69771C4887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571B9E9-B8AB-45D8-BBDA-D46E63B7916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458691-A40F-42BE-9F18-61FE0CB741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10510B-D3E8-4CE7-9011-EFA74DE0A938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20B500-1853-4C81-B763-B5063A56AB87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D34B1E-9D82-4F18-A8E5-D444092D02E8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EAEF22-720C-4AD6-BDAA-84EFEFFFB77D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5AE1C9-CD70-452B-BDC1-046613F90B81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8B55B5-1FAB-4E74-BE73-6411C7E95C6A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681140-ECB6-417A-8106-58BA02191568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537323-7182-4DFF-BEF0-1D2B3175D594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B5B334-1DCB-4BBF-9A34-53E3BD0D6A0F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C3E26F-0FD6-4F8F-BFC7-C650167DD2CD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415F5A1-5501-455C-9A8F-2888526524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05DA51-DE99-4206-83BD-BBE5808A96F9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B70B735-C8E4-4E33-A9BB-D6E4785EBE43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8744D48-3BDF-4AAE-B889-ECD8AC40DE7F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8CB764E-3411-4F4E-AD35-4A307F054DE5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76F2B40-5A2D-4A66-93F9-6DB89B6D1EE5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56D9968-E4EC-4E97-A9FA-F03D41D6A534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318A912-F33A-4394-B42A-6CB737F44C72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2BCA753-E604-482A-94A0-2C211D21E893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0F1FE88-7801-4D5A-937B-350794668C5B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8FD7571-8A56-477C-AC9D-9D4A5D1032A7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AF28841-0DA3-4199-B387-47232D2C44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7E96EA-7996-4E35-B048-43E6B536BA90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76BC9E8-E03C-4338-90A7-07C932F9C79E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DB3EEEB-5144-4B14-8B73-1B9087A4A802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10EF49F-3C92-4E0A-9D69-ABF95931A89B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1F21C1D-D311-46BF-AE0F-5E54A449A425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1FCD966-1133-454E-85BD-2C5106E92744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6303C46-0CE1-4674-8FED-89E2D128839A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903D5D5-19C8-4C18-BBFA-6842AB3DC431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7DD3296-72D3-4DE8-99FA-2D93943D6E3E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544CAFF-16C3-49FB-8C3B-017610FE1061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747332C-AE31-4264-A0B5-929B5CEFB7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F815A0-2F3C-4414-B5AD-4EC5FE35920C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4C6041F-D395-4405-B634-37CF1741FF4F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C324C98-8DC0-4277-957E-DBE2BD9D686E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0E49B97-5993-415A-90E5-6FE71421E874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BFFB36-862C-44A2-95E5-97F17F2BCDAB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57C09E-2C7D-469B-9C7F-30FEC2D958D6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0B0031-AA52-4302-A9F4-44485311ECA1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73E0B1-50A3-4C75-9DD1-E37558723EEC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E6A9E8-08C3-4E28-8878-37F20C35B3D9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C280C6-6AA0-411E-AAA9-DD8E5F868B02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B80169-8297-4012-A999-7402AF9D74C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942F02-64D2-4D58-9822-B8E7806282D5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57FFD9-69E2-43E2-A212-A454C1BC82C4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302E88-F83C-43BC-9AB8-883AC571C111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17C979-6E9B-4BE8-BB8F-EE4FF35E7FC4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CFAD4B-7B6E-4DE5-A8FA-D6CDE40079D2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1CDF76-BE45-4B42-AE0F-247C3FA117FD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4CF4CD9-E2F2-44DD-B94A-0FE38609865C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EAB32DB-631B-4F5E-B09E-AACDA36D1DC6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62D92DE-1887-496A-B593-129B783DE87A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E2FE8B1-5EBE-4FE8-9EB0-D7F5160B5B77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0358CB8-A7D2-4B0A-B5EE-6C2FA8D5465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32D76B-AAD7-4F75-8313-0580826471A2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85240B6-DAD4-443D-B826-0102A88BBB5D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080EF21-64C8-4E85-BAC0-BCA47E87D7AD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8853019-DE25-4119-8FB4-C4D524611E36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A2A9D41-105A-4D53-A8FD-2C39476256D8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CA112C3-1371-4866-9F9C-F029A9984FA5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03605B2-179C-41F6-A681-8B824CF3BC37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D9F2F49-143A-421E-A23D-9E1E1032219E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781A12F-753F-4251-9595-F2BA172B92C2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DAF0C8A-2DFE-4082-B19A-BE7E474E4B57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C47CCE8-5E60-43E1-8988-1996C7DA9FF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6AEF53-4DB6-4004-8F7F-CF68FBC54E6C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8544B1D-CAE9-4BFD-B6CE-48C4BD452111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B9A2248-0FFA-4D8E-B97A-3BCC310F95BB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5576204-B9A3-4580-8421-57BA49E680DA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24A4DA2-218B-4FED-B981-AC52901218E1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5AB6308-EC3A-4AE7-AC9A-9F8B14695996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B1CE636-C122-4F72-9DAA-78FD45D1B97C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7197441-0632-4497-A2F5-F22A41FC5E14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B64EC44-3099-471E-9F0C-F2B468D187AE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57B57DB-0B7F-44CC-BF38-FF8CF5E05513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0EA865-93B4-451A-B9CD-4ABA42A757F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D509BC-F753-4AF2-90E6-089924320CE3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41903E-C79A-45EA-B74B-608146900A6D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636FB1-7CB8-4A27-BD79-69D876A7CAD3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83D89A-677B-477E-BA41-511D9BA0D400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D268FF-F778-4DE0-8B1A-B04969B53CB8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14F96C-B41F-4426-A89A-0C7B1DCB07B9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474079-B04E-42D0-BBF1-6F2EA00829A6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EC15F6-C2E7-4DC3-AF61-F9028104FD25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2E834F-435E-42DF-88D1-537684D4D986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FE45C3-D092-4676-80EA-A05454CECB89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42451F-7372-4179-A959-3DA1964BDD6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22BFA1-0236-488D-8FAC-98E916234637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A9F4FE-CB5C-46EE-B927-C5230A774830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D0BFF31-5EC4-4679-BB33-7C3CEE77E6EB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4F54329-E2D0-4E30-9B76-C9AC90297412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4821870-414E-41A4-9EA0-EB82FDED4752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1A9D45A-3E9D-4E8E-BC1D-2DC40526D474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89507F7-EC7A-4B41-A785-88C94C603979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987F1C7-EC68-4629-AEEC-8DB7E7D195BF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E439653-176E-409D-A83E-EE9C10F94703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C0F9EB8-A0BE-41D5-BCD5-2647C0FFAB4E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44F7691-886A-4FF6-946E-E81F239F4F2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787185-3118-46E0-B436-2E8BF864794C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FEFE290-87DB-4E0F-8EB1-1E060ED02BFA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518C85F-2FEC-4071-8786-E7EE8DA891EC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D140CDD-6D08-49AC-A385-89BA18E1B007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C12B244-8A7F-4238-9457-4E56F4C835B0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43E40B3-F6BB-44DF-8229-DC8A5EA7AEB1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F7C74D3-6714-44C7-8877-264CB1533176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6F20D67-6F17-4230-9351-97BB6F483937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90C3F52-B554-4BCA-8C58-8162010FDA18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B14555E-B2AC-492D-8233-38D54F9B3115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8CD6E52-44A0-454D-802C-BEDCAA59E96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FF773D-C748-4B5E-890E-4083C3234A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2D80C1-5E58-4788-863B-D1984736CAB8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24A6513-5D93-40E2-AFEB-E37AA854CF96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981E1FE-A15C-4C76-8CCF-632D0C4E09FE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2E1FB82-B099-4768-A1C0-675E22208BAC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5A37623-4340-4CBF-9CBE-659DB9656F79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42014A6-BA21-45A6-94C0-D645D96A9362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82B4B5-D1BB-46B7-B7B0-D6AC858C044A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2ABBD4-BA61-412A-8C3A-7A2AEBAB3657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625E57-8350-44A2-A638-A7BFE0F2B0CE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5EC80A-74F3-4220-B64A-8E1EB318B2F8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554CC3-4A2B-4B28-BF20-9E94F36F9FF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E6E974-2ADB-4768-98AC-BF7D4F8C80D0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B98EF1-F8C4-4CD5-A2C3-9A22E4255907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9291FF-305F-478F-B919-F62D249EAA84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C8E61D-C5D6-445B-A1CE-09C4D1690A16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2E409A-1966-4321-B374-3129377B002E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EBEFD3-796E-4F07-828F-0658E4C53E06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242334-864D-42C1-BFE1-9722CB7AF383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ED9A8F-F284-494D-8BC5-98057A5010ED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1F020A0-6ABC-4EA3-9017-490A3BB49E21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32753F4-50CC-4592-8049-3731AF2402BB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9304C6F-F99D-4C68-8824-6AC17ACAC40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509D55-4944-4408-B3E3-2271BCACC005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D3B7647-3E3A-4641-8F5A-1CFBFC33FCC9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A580BBF-7D42-4AC9-9515-6A5D589FC884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C64F935-50EA-4097-A09B-BF2B3718AED0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FA59904-E2A8-41BF-98F1-8AAA01334F11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8CAE20D-60D6-4DD0-BEE4-0BF02336C646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FB0CF25-A86C-4FC0-9221-0B6535B136AE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AE81D4E-8121-4435-A4E5-32DF5993A141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98048E3-6D2C-4064-A8B5-0E5253250A8A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3868B16-DD62-427A-A8FE-7A97BE88799A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5901192-F75F-4233-88CD-F82331D6762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EBCEF5-CFD9-4C60-B113-C598AAC0AD42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C85BBF9-3377-45A9-989C-F05242C3C727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ECE5D03-E4D0-46B4-9E2B-E217F1257E0A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A0B346A-E2AC-4004-8326-213A6D269168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10A8E1D-DDA5-4433-8DB7-056794D69A04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76BF7C5-1257-4452-BA64-971926EC1A44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B5D7656-B79E-433A-A1A3-6C5FE6EB1E7C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8E12E9E-D315-4080-9DCE-900EB6ED1CE6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E0F0930-54B7-4025-8DE7-B48FDEE3BC66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A3858D1-7D82-4EBC-81F0-95F03A5A2CCB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78F143D-7262-4C0F-A41F-40BDAA0EA9E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9EFC34-2256-4A8A-B256-B901BAC9887D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B0227A9-99E3-4A36-ADCC-1642DD2F944B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629216-3E02-43E3-9883-3854A9E745E3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0C4B96-FC4C-4F95-AF53-E8032C63F2D3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E15957-5D64-4563-BD19-22D9871B1F29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E9A0A3-18FA-487C-8F85-4143D90C1B56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B850C3-A2C6-47CE-ADDA-E8D3A6310B80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88C63B-516D-4990-BB1C-35A938D8C376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227B02-99D1-4BAB-8495-75BFE4F38B54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90427A-36F8-484F-A3AD-D965D948AA6B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757400-BBB8-46C9-8DF0-977C93468B25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5EC61-902B-454E-98E5-D8F445DEEE23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6C0477-E83F-469E-AE1C-F5A1D7811665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57A2B0-8A53-46B8-A29E-105F4332EF91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71A471-E1BF-4492-9B46-D2A413668DDF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388498D-41FA-4FC2-812C-041B864E3E04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966067F-CE7B-4445-8214-A0CEA3D846C1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41033E9-3A2E-4CAB-A309-FE7A8A4F488E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2B1E974-B28E-4564-ADDD-97A11BA06745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315142D-FB7A-4F37-8486-6FDEBE8070B0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0FC1308-09C1-4ECE-9A74-7E05ACEA0943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920C76B-EBD0-4BC1-93D9-66D5C3F39A0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A6652-DC44-4E6E-8892-843B25CBC5E3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FC11BF0-A954-4613-828F-32AB124CF1D0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D17AF9D-20C9-4207-B3C6-124B6A4AB4EB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7D9AB5A-9946-49FA-8EA3-152C8B2A10DA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68F3C05-6445-49EE-8B61-684D249CD628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6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7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B237F37-0B85-45E8-88A6-A03514D8BB71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E656D09-9FC5-4946-9BCC-B061427FD7D9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7A749C1-F9D9-494C-A777-06E634968977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40828CA-E471-4C56-8BB9-A069806FAFE4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FBBA435-A8FF-405D-95BC-8BE0117AE9B6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A7A8412-A5E7-47B8-B54F-83CE1D48123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8C816-83BB-47B4-A0D8-1257ABAD85C3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228B3A3-AC79-4436-B77C-7D53BE91EA1D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C9F4DEB-8A02-4767-904F-9876C538A27C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6F74E6C-1F3D-4A9D-B8E1-9AECB46D92BD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CC9C007-0652-43F3-93AD-B17E7EE79EFE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3AE4CDC-2D7F-45FB-95CE-E5555410B4E1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6985531-738D-4E83-AF1F-6858E7245E81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6176342-C3CD-4F5A-9412-51973865E161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088839-42E3-4DF8-A7FE-73099B20AF5A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896FFD-D5AF-4643-B706-869026AC4950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C91F88-B1BA-4917-A185-036E5EAB415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D1AC2-275F-4022-9D4C-3C25765C43AF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44FD31-813C-4078-822F-91754138C338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C6F9E7-CB36-4E3D-8045-EB7F7982A0FB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928F41-CEE6-48B6-AC5D-43E6E6D51E67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C85A1D-CD3D-4C91-BC0D-46992D235FD7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B6D3F8-9085-40A2-86AD-2E7E4B7D8017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591867-69E2-4675-9A5F-6BED295A753D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8CFCA4-0919-4192-9B3D-1341D81EEE9C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C6FE5A-1160-4473-8C55-3DB43EDD5695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C75F4A-E7FE-4B61-99FC-1C828E56C1E3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2A96E0D-3E32-4F29-9BAF-0730A868242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0CCDE-BD3E-4626-857E-C4203DDF8E99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4562A1B-6E62-4BF7-939B-9989B5E0CC38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3138E30-AC2E-47A5-A82B-7DE1924A2EFA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DFE476E-BD9E-45DB-AA7C-560559D4D005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6F50D71-3CEA-4FA9-816C-EB3FFEC2B0E0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E526906-44B8-4E50-90B2-161D55E5DDDB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CA54C19-FF61-464E-B11A-28276770CB6A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F64776E-CF57-4232-9908-128AB19E760C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8167BB3-20B2-4019-B54C-3D79AD48D7D0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2A3ACCB-63F7-4CA9-9BAF-329AB0138A0A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9296713-D5EB-4EA9-8DC8-B41E347A82A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522503-A050-4DD5-9BB2-82B7726ACC0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24448-76C6-4B3A-B076-A07ED891A8A3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AA5708B-C2CA-4D7B-AF70-5D15A5043F20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E5E34C6-6B1C-4E6B-A176-0C8BF6561CAE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5E2A4E4-C4CF-4DC4-B640-C6DF450805D7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88121FC-58FA-456F-AF48-0CDCDF7B07B9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ED9E61A-31B9-4536-8E29-3012EFE18FF0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D98611E-E514-4231-8280-237241D0A6D0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2431E1F-E4FE-4580-A33A-0A1EC2B91CEE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AFD935D-0BE4-4464-9165-2B627795CD06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B037B8E-6EF3-4374-8608-35D0930D3ED0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AA6ED87-96C3-4282-AFFC-5FE588B68D7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82248-A737-4610-A052-3AE7DD0138EC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13BFA58-820E-4C41-8617-F76E3B89D927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5DB5BE7-0C57-4236-84CF-A0108BCB0E13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84D863B-4B23-44ED-A20F-8D0C0E7058D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662E1-BBE6-4760-AF6E-5D6B5F30F1E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BE146-3805-41DB-9263-0C92F3DF815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42999-0C6F-4C71-B7F0-E31740C33D0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AD683-8A81-411A-A565-2064154D20B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A002A-7D74-49B6-9DB5-4A19BDC34A72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9B9DED-7EA1-47CD-81EA-25FCF0A5B1EF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2FEC60-0666-4DB9-A858-1BB29A3B8E47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A22364-A230-4231-81E6-358F94CD30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7E037A-1F31-4D67-993E-542ACDADFFF8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D447D9-AD4A-43A6-BEAF-81FA1BBE0861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8FA9F4-F460-4D06-9028-D3B5159CB59B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F1D471-FF60-4F6E-A9A7-0933D3E69818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EA94C8-4941-4F6A-A198-67965D0A0060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F217C6-86B5-4D1B-B617-5542B6349337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67A5A0-E871-4F5C-8E93-71AB24488F8D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1C6EC3-6064-4AAB-819E-AFB22A63EAD0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C8BC2E-ED85-4369-A02C-C4CCCE4D594D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B5A384-012A-43A6-8CF8-A8A80951CC30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38BF50-3890-4602-BB31-F3284520E2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492175-B21A-41C8-88A7-8FF0640F1343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B83E96-F9DB-40D9-AAE5-003335E8409C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005619-49FD-45CE-A7DB-BD855366AF27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8CDF03-E4BC-4CA2-92CD-6322EFEC531F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39A2ED-12AC-4D97-9B30-FAE7740313A8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CCFB06-ACC7-44FA-ABD9-A2344F181D9C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736D0C-F9ED-4A94-A2CB-5CB0B2D69F57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5C950C-32E4-476D-9C1D-53847DA71303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5B7201-D3FF-4661-9BFF-A7D7088A494C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B379AF-94A5-4F23-9501-53CDABCAA612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D1B147-F5D0-43A7-822F-872E943B3B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98C79A-CF46-4871-B8B5-D0B84DF1E3B6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576D64-FA77-4D40-A165-96A497415CEC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681A8-952F-4330-AAC1-3DB00BCDDE80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C84EB-B034-47B8-85BF-353D581A7352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335A9-3B15-440B-81A7-435D55D56FDC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7C38C-4197-414E-80C9-ADD6AA1CDF88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FDE25-A202-4533-9A83-1FA119BE5D88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AC7DB-86C7-4419-B1FE-7EA226AF27A4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E291A-A33A-429E-9431-5BDF106D38E8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66FBE-B80A-4F5F-BAE8-6E1A591E1607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89CEB-B664-4D68-8B04-35126835BC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052A32-68A9-4D58-AEEC-EB5A1C196F89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51D6C-7A33-4621-8B3F-4DB9E04CF38C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893CA-5CED-41D4-A03A-01D991396885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CD618-08DB-4A09-B2D4-C8097BF43865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9AA159B-32D8-4802-9B8B-B084E0DB7965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54D254E-D190-47E5-B8CF-EE01E8AF542C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2E5508A-079C-42D0-B896-EBBFFB9A38E8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6145546-8982-452D-A8D0-D656FDEDE978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14195C8-C535-422D-B95C-1712F2BE1B93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B1710ED-6050-4422-9F85-401BB09CDCCC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59E4540-0BE1-44B7-9BC7-00BB5F6926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F912BA-5342-4F5A-9283-8AB2F2468CC0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BE614FB-156A-4F78-AF4E-4777BE826FAC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E663DE6-FF20-4DE7-9D6A-65F2A54D86E2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AF52826-E3C4-48E0-9F9D-7A34E595C761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DE1E885-7C2B-49D4-A3C9-B3F44F64E3BF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568E11E-1B74-4066-98E9-A49CBD5E3D68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18B836F-A091-4322-89F3-49F210CC4AF9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7F805C6-59C5-4549-B02E-BC4C9CABA253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550F589-64EA-4556-A370-B40E181ABB86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D1307E2-EC57-4AC6-ADE5-2BE07E851819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7D0F6D2-241D-41E4-951E-FB1EFC1FED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9CC1CA-B874-4A19-B045-ED5B584D5218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8D1351B-99B5-4D2E-A162-A8437695D7C8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7D7F92D-3E6A-4876-B7B2-C955EB5A4004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3F15EF8-A3F8-499C-B985-707F8E3C763F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8CE8A1E-DD0E-4516-82F7-F4BEA1B07D54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1255492-EAD9-4A5E-88A3-61EB64DCF2B0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E97E0D-6993-4A63-A4E9-C168CF664848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8660AA7-E0F7-436F-A6B0-3684B9BA0803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E1BBB1-1995-4201-B0C0-F6FAD48F87A6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0FBFC9-96F0-4A4A-A1F2-45713EDD227E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739140-70B2-41B9-8820-A18E6B52D7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41.xml"/><Relationship Id="rId6" Type="http://schemas.openxmlformats.org/officeDocument/2006/relationships/slideLayout" Target="../slideLayouts/slideLayout242.xml"/><Relationship Id="rId7" Type="http://schemas.openxmlformats.org/officeDocument/2006/relationships/slideLayout" Target="../slideLayouts/slideLayout243.xml"/><Relationship Id="rId8" Type="http://schemas.openxmlformats.org/officeDocument/2006/relationships/slideLayout" Target="../slideLayouts/slideLayout244.xml"/><Relationship Id="rId9" Type="http://schemas.openxmlformats.org/officeDocument/2006/relationships/slideLayout" Target="../slideLayouts/slideLayout245.xml"/><Relationship Id="rId10" Type="http://schemas.openxmlformats.org/officeDocument/2006/relationships/slideLayout" Target="../slideLayouts/slideLayout246.xml"/><Relationship Id="rId11" Type="http://schemas.openxmlformats.org/officeDocument/2006/relationships/slideLayout" Target="../slideLayouts/slideLayout247.xml"/><Relationship Id="rId12" Type="http://schemas.openxmlformats.org/officeDocument/2006/relationships/slideLayout" Target="../slideLayouts/slideLayout248.xml"/><Relationship Id="rId13" Type="http://schemas.openxmlformats.org/officeDocument/2006/relationships/slideLayout" Target="../slideLayouts/slideLayout249.xml"/><Relationship Id="rId14" Type="http://schemas.openxmlformats.org/officeDocument/2006/relationships/slideLayout" Target="../slideLayouts/slideLayout250.xml"/><Relationship Id="rId15" Type="http://schemas.openxmlformats.org/officeDocument/2006/relationships/slideLayout" Target="../slideLayouts/slideLayout251.xml"/><Relationship Id="rId16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3.xml"/><Relationship Id="rId6" Type="http://schemas.openxmlformats.org/officeDocument/2006/relationships/slideLayout" Target="../slideLayouts/slideLayout254.xml"/><Relationship Id="rId7" Type="http://schemas.openxmlformats.org/officeDocument/2006/relationships/slideLayout" Target="../slideLayouts/slideLayout255.xml"/><Relationship Id="rId8" Type="http://schemas.openxmlformats.org/officeDocument/2006/relationships/slideLayout" Target="../slideLayouts/slideLayout256.xml"/><Relationship Id="rId9" Type="http://schemas.openxmlformats.org/officeDocument/2006/relationships/slideLayout" Target="../slideLayouts/slideLayout257.xml"/><Relationship Id="rId10" Type="http://schemas.openxmlformats.org/officeDocument/2006/relationships/slideLayout" Target="../slideLayouts/slideLayout258.xml"/><Relationship Id="rId11" Type="http://schemas.openxmlformats.org/officeDocument/2006/relationships/slideLayout" Target="../slideLayouts/slideLayout259.xml"/><Relationship Id="rId12" Type="http://schemas.openxmlformats.org/officeDocument/2006/relationships/slideLayout" Target="../slideLayouts/slideLayout260.xml"/><Relationship Id="rId13" Type="http://schemas.openxmlformats.org/officeDocument/2006/relationships/slideLayout" Target="../slideLayouts/slideLayout261.xml"/><Relationship Id="rId14" Type="http://schemas.openxmlformats.org/officeDocument/2006/relationships/slideLayout" Target="../slideLayouts/slideLayout262.xml"/><Relationship Id="rId15" Type="http://schemas.openxmlformats.org/officeDocument/2006/relationships/slideLayout" Target="../slideLayouts/slideLayout263.xml"/><Relationship Id="rId16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65.xml"/><Relationship Id="rId6" Type="http://schemas.openxmlformats.org/officeDocument/2006/relationships/slideLayout" Target="../slideLayouts/slideLayout266.xml"/><Relationship Id="rId7" Type="http://schemas.openxmlformats.org/officeDocument/2006/relationships/slideLayout" Target="../slideLayouts/slideLayout267.xml"/><Relationship Id="rId8" Type="http://schemas.openxmlformats.org/officeDocument/2006/relationships/slideLayout" Target="../slideLayouts/slideLayout268.xml"/><Relationship Id="rId9" Type="http://schemas.openxmlformats.org/officeDocument/2006/relationships/slideLayout" Target="../slideLayouts/slideLayout269.xml"/><Relationship Id="rId10" Type="http://schemas.openxmlformats.org/officeDocument/2006/relationships/slideLayout" Target="../slideLayouts/slideLayout270.xml"/><Relationship Id="rId11" Type="http://schemas.openxmlformats.org/officeDocument/2006/relationships/slideLayout" Target="../slideLayouts/slideLayout271.xml"/><Relationship Id="rId12" Type="http://schemas.openxmlformats.org/officeDocument/2006/relationships/slideLayout" Target="../slideLayouts/slideLayout272.xml"/><Relationship Id="rId13" Type="http://schemas.openxmlformats.org/officeDocument/2006/relationships/slideLayout" Target="../slideLayouts/slideLayout273.xml"/><Relationship Id="rId14" Type="http://schemas.openxmlformats.org/officeDocument/2006/relationships/slideLayout" Target="../slideLayouts/slideLayout274.xml"/><Relationship Id="rId15" Type="http://schemas.openxmlformats.org/officeDocument/2006/relationships/slideLayout" Target="../slideLayouts/slideLayout275.xml"/><Relationship Id="rId16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77.xml"/><Relationship Id="rId6" Type="http://schemas.openxmlformats.org/officeDocument/2006/relationships/slideLayout" Target="../slideLayouts/slideLayout278.xml"/><Relationship Id="rId7" Type="http://schemas.openxmlformats.org/officeDocument/2006/relationships/slideLayout" Target="../slideLayouts/slideLayout279.xml"/><Relationship Id="rId8" Type="http://schemas.openxmlformats.org/officeDocument/2006/relationships/slideLayout" Target="../slideLayouts/slideLayout280.xml"/><Relationship Id="rId9" Type="http://schemas.openxmlformats.org/officeDocument/2006/relationships/slideLayout" Target="../slideLayouts/slideLayout281.xml"/><Relationship Id="rId10" Type="http://schemas.openxmlformats.org/officeDocument/2006/relationships/slideLayout" Target="../slideLayouts/slideLayout282.xml"/><Relationship Id="rId11" Type="http://schemas.openxmlformats.org/officeDocument/2006/relationships/slideLayout" Target="../slideLayouts/slideLayout283.xml"/><Relationship Id="rId12" Type="http://schemas.openxmlformats.org/officeDocument/2006/relationships/slideLayout" Target="../slideLayouts/slideLayout284.xml"/><Relationship Id="rId13" Type="http://schemas.openxmlformats.org/officeDocument/2006/relationships/slideLayout" Target="../slideLayouts/slideLayout285.xml"/><Relationship Id="rId14" Type="http://schemas.openxmlformats.org/officeDocument/2006/relationships/slideLayout" Target="../slideLayouts/slideLayout286.xml"/><Relationship Id="rId15" Type="http://schemas.openxmlformats.org/officeDocument/2006/relationships/slideLayout" Target="../slideLayouts/slideLayout287.xml"/><Relationship Id="rId16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89.xml"/><Relationship Id="rId6" Type="http://schemas.openxmlformats.org/officeDocument/2006/relationships/slideLayout" Target="../slideLayouts/slideLayout290.xml"/><Relationship Id="rId7" Type="http://schemas.openxmlformats.org/officeDocument/2006/relationships/slideLayout" Target="../slideLayouts/slideLayout291.xml"/><Relationship Id="rId8" Type="http://schemas.openxmlformats.org/officeDocument/2006/relationships/slideLayout" Target="../slideLayouts/slideLayout292.xml"/><Relationship Id="rId9" Type="http://schemas.openxmlformats.org/officeDocument/2006/relationships/slideLayout" Target="../slideLayouts/slideLayout293.xml"/><Relationship Id="rId10" Type="http://schemas.openxmlformats.org/officeDocument/2006/relationships/slideLayout" Target="../slideLayouts/slideLayout294.xml"/><Relationship Id="rId11" Type="http://schemas.openxmlformats.org/officeDocument/2006/relationships/slideLayout" Target="../slideLayouts/slideLayout295.xml"/><Relationship Id="rId12" Type="http://schemas.openxmlformats.org/officeDocument/2006/relationships/slideLayout" Target="../slideLayouts/slideLayout296.xml"/><Relationship Id="rId13" Type="http://schemas.openxmlformats.org/officeDocument/2006/relationships/slideLayout" Target="../slideLayouts/slideLayout297.xml"/><Relationship Id="rId14" Type="http://schemas.openxmlformats.org/officeDocument/2006/relationships/slideLayout" Target="../slideLayouts/slideLayout298.xml"/><Relationship Id="rId15" Type="http://schemas.openxmlformats.org/officeDocument/2006/relationships/slideLayout" Target="../slideLayouts/slideLayout299.xml"/><Relationship Id="rId16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01.xml"/><Relationship Id="rId6" Type="http://schemas.openxmlformats.org/officeDocument/2006/relationships/slideLayout" Target="../slideLayouts/slideLayout302.xml"/><Relationship Id="rId7" Type="http://schemas.openxmlformats.org/officeDocument/2006/relationships/slideLayout" Target="../slideLayouts/slideLayout303.xml"/><Relationship Id="rId8" Type="http://schemas.openxmlformats.org/officeDocument/2006/relationships/slideLayout" Target="../slideLayouts/slideLayout304.xml"/><Relationship Id="rId9" Type="http://schemas.openxmlformats.org/officeDocument/2006/relationships/slideLayout" Target="../slideLayouts/slideLayout305.xml"/><Relationship Id="rId10" Type="http://schemas.openxmlformats.org/officeDocument/2006/relationships/slideLayout" Target="../slideLayouts/slideLayout306.xml"/><Relationship Id="rId11" Type="http://schemas.openxmlformats.org/officeDocument/2006/relationships/slideLayout" Target="../slideLayouts/slideLayout307.xml"/><Relationship Id="rId12" Type="http://schemas.openxmlformats.org/officeDocument/2006/relationships/slideLayout" Target="../slideLayouts/slideLayout308.xml"/><Relationship Id="rId13" Type="http://schemas.openxmlformats.org/officeDocument/2006/relationships/slideLayout" Target="../slideLayouts/slideLayout309.xml"/><Relationship Id="rId14" Type="http://schemas.openxmlformats.org/officeDocument/2006/relationships/slideLayout" Target="../slideLayouts/slideLayout310.xml"/><Relationship Id="rId15" Type="http://schemas.openxmlformats.org/officeDocument/2006/relationships/slideLayout" Target="../slideLayouts/slideLayout311.xml"/><Relationship Id="rId16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FBFA2D-7B48-4023-A7EE-5AF90F913E9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sldNum" idx="1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6CBA12C-D473-43C2-86A1-8F44A35C9C4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23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sldNum" idx="1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EF11BE-0652-4791-A49B-1F534D3C875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65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sldNum" idx="1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EC47E7-A8E8-4AE1-A715-66F56BBB434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07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sldNum" idx="1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C935392-26CF-4D88-8389-5E4649B975E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sldNum" idx="1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59AA965-1E32-4A09-91F0-77667BCEA09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92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3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sldNum" idx="1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AE4944-439F-4500-AD9A-A22DF411057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35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 type="sldNum" idx="1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C2CEF40-2FCE-453F-BF39-DEDB8369EF2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78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9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sldNum" idx="1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CC179D9-5489-4967-8B2E-9824C7B39F3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21" name="Rectangle 6"/>
          <p:cNvSpPr/>
          <p:nvPr/>
        </p:nvSpPr>
        <p:spPr>
          <a:xfrm>
            <a:off x="249120" y="269568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Rectangle 9"/>
          <p:cNvSpPr/>
          <p:nvPr/>
        </p:nvSpPr>
        <p:spPr>
          <a:xfrm>
            <a:off x="247680" y="895320"/>
            <a:ext cx="864072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 type="sldNum" idx="1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57DEA54-3624-4802-A878-0ECF3EFEC04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6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sldNum" idx="1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B09230C-4690-4ECE-90BF-982902F9000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4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6974EF2-8F62-47D4-8A67-AD0C472489F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09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 type="sldNum" idx="2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B4F1B00-334D-4FF3-AC48-CAFFCCB98D8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5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5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 type="sldNum" idx="2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A93316-3B2D-4CCC-8041-204A458E367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5"/>
    <p:sldLayoutId id="2147483910" r:id="rId6"/>
    <p:sldLayoutId id="2147483911" r:id="rId7"/>
    <p:sldLayoutId id="2147483912" r:id="rId8"/>
    <p:sldLayoutId id="2147483913" r:id="rId9"/>
    <p:sldLayoutId id="2147483914" r:id="rId10"/>
    <p:sldLayoutId id="2147483915" r:id="rId11"/>
    <p:sldLayoutId id="2147483916" r:id="rId12"/>
    <p:sldLayoutId id="2147483917" r:id="rId13"/>
    <p:sldLayoutId id="2147483918" r:id="rId14"/>
    <p:sldLayoutId id="2147483919" r:id="rId15"/>
    <p:sldLayoutId id="2147483920" r:id="rId16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9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 type="sldNum" idx="2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9151760-3FF1-4BC5-9CEB-C55E20E7EFA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5"/>
    <p:sldLayoutId id="2147483923" r:id="rId6"/>
    <p:sldLayoutId id="2147483924" r:id="rId7"/>
    <p:sldLayoutId id="2147483925" r:id="rId8"/>
    <p:sldLayoutId id="2147483926" r:id="rId9"/>
    <p:sldLayoutId id="2147483927" r:id="rId10"/>
    <p:sldLayoutId id="2147483928" r:id="rId11"/>
    <p:sldLayoutId id="2147483929" r:id="rId12"/>
    <p:sldLayoutId id="2147483930" r:id="rId13"/>
    <p:sldLayoutId id="2147483931" r:id="rId14"/>
    <p:sldLayoutId id="2147483932" r:id="rId15"/>
    <p:sldLayoutId id="2147483933" r:id="rId16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 type="sldNum" idx="2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A98C949-CCB1-4D09-BC05-369E5AC0668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5"/>
    <p:sldLayoutId id="2147483936" r:id="rId6"/>
    <p:sldLayoutId id="2147483937" r:id="rId7"/>
    <p:sldLayoutId id="2147483938" r:id="rId8"/>
    <p:sldLayoutId id="2147483939" r:id="rId9"/>
    <p:sldLayoutId id="2147483940" r:id="rId10"/>
    <p:sldLayoutId id="2147483941" r:id="rId11"/>
    <p:sldLayoutId id="2147483942" r:id="rId12"/>
    <p:sldLayoutId id="2147483943" r:id="rId13"/>
    <p:sldLayoutId id="2147483944" r:id="rId14"/>
    <p:sldLayoutId id="2147483945" r:id="rId15"/>
    <p:sldLayoutId id="2147483946" r:id="rId16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 type="sldNum" idx="2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065B983-8554-485F-9216-EC7AA504809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5"/>
    <p:sldLayoutId id="2147483949" r:id="rId6"/>
    <p:sldLayoutId id="2147483950" r:id="rId7"/>
    <p:sldLayoutId id="2147483951" r:id="rId8"/>
    <p:sldLayoutId id="2147483952" r:id="rId9"/>
    <p:sldLayoutId id="2147483953" r:id="rId10"/>
    <p:sldLayoutId id="2147483954" r:id="rId11"/>
    <p:sldLayoutId id="2147483955" r:id="rId12"/>
    <p:sldLayoutId id="2147483956" r:id="rId13"/>
    <p:sldLayoutId id="2147483957" r:id="rId14"/>
    <p:sldLayoutId id="2147483958" r:id="rId15"/>
    <p:sldLayoutId id="2147483959" r:id="rId16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23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4" name="Rectangle 8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sldNum" idx="2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6C4415-E55E-4134-B0E8-F853A644C09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5"/>
    <p:sldLayoutId id="2147483962" r:id="rId6"/>
    <p:sldLayoutId id="2147483963" r:id="rId7"/>
    <p:sldLayoutId id="2147483964" r:id="rId8"/>
    <p:sldLayoutId id="2147483965" r:id="rId9"/>
    <p:sldLayoutId id="2147483966" r:id="rId10"/>
    <p:sldLayoutId id="2147483967" r:id="rId11"/>
    <p:sldLayoutId id="2147483968" r:id="rId12"/>
    <p:sldLayoutId id="2147483969" r:id="rId13"/>
    <p:sldLayoutId id="2147483970" r:id="rId14"/>
    <p:sldLayoutId id="2147483971" r:id="rId15"/>
    <p:sldLayoutId id="2147483972" r:id="rId16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66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 type="sldNum" idx="2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6361A10-BB49-40E9-B90E-17346577FA8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5"/>
    <p:sldLayoutId id="2147483975" r:id="rId6"/>
    <p:sldLayoutId id="2147483976" r:id="rId7"/>
    <p:sldLayoutId id="2147483977" r:id="rId8"/>
    <p:sldLayoutId id="2147483978" r:id="rId9"/>
    <p:sldLayoutId id="2147483979" r:id="rId10"/>
    <p:sldLayoutId id="2147483980" r:id="rId11"/>
    <p:sldLayoutId id="2147483981" r:id="rId12"/>
    <p:sldLayoutId id="2147483982" r:id="rId13"/>
    <p:sldLayoutId id="2147483983" r:id="rId14"/>
    <p:sldLayoutId id="2147483984" r:id="rId15"/>
    <p:sldLayoutId id="2147483985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D8E09B2-F0F1-4395-96F0-87B92D60EEF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B86B6FD-3686-421B-BA7F-A5456A9C407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77755E9-495F-4686-8164-1926D32F74F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0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Num" idx="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632453-7D90-4460-829F-CA9F6C5C6C1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3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CB38F67-AD20-4C54-88E9-B8A89F9A2B4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6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sldNum" idx="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0814992-2B68-4BA3-872C-F6A44764B8A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sldNum" idx="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E28853-7492-4CED-9AA8-FACE6FCF24F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27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9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277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0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25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2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3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328760"/>
          </a:xfrm>
          <a:prstGeom prst="rect">
            <a:avLst/>
          </a:prstGeom>
          <a:ln w="0">
            <a:noFill/>
          </a:ln>
        </p:spPr>
      </p:pic>
      <p:sp>
        <p:nvSpPr>
          <p:cNvPr id="111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D53E4C-BB12-456C-BE08-C948118414D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5" name="PlaceHolder 1"/>
          <p:cNvSpPr>
            <a:spLocks noGrp="1"/>
          </p:cNvSpPr>
          <p:nvPr>
            <p:ph/>
          </p:nvPr>
        </p:nvSpPr>
        <p:spPr>
          <a:xfrm>
            <a:off x="429840" y="1450440"/>
            <a:ext cx="8386920" cy="40356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Brian 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29840" y="1800000"/>
            <a:ext cx="8386920" cy="40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lfresco Product Architec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29840" y="2263680"/>
            <a:ext cx="8386920" cy="457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 fontScale="75000"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B84DEC-F0B9-46AF-B83F-AC7B5FF668A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corresponding data list for feedback (auto-created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New entries are periodically processed – each type of feedback can have its own handler defin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mmen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mmen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ntac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ntact Reques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1" name="TextBox 6"/>
          <p:cNvSpPr/>
          <p:nvPr/>
        </p:nvSpPr>
        <p:spPr>
          <a:xfrm>
            <a:off x="249120" y="5113440"/>
            <a:ext cx="863928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8585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bean id=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"commentFeedbackProcessorHandler" 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parent="feedbackProcessorHandler"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       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class="org.alfresco.module.org_alfresco_module_wcmquickstart.jobs.feedback.CommentFeedbackProcessorHandler"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&lt;property name=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"feedbackType" value="Comment"  /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/bean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2" name="Picture 2" descr="C:\Users\Brian\Documents\alfresco\cheetah\wcmqs-devguide\feedback-processor.png"/>
          <p:cNvPicPr/>
          <p:nvPr/>
        </p:nvPicPr>
        <p:blipFill>
          <a:blip r:embed="rId2"/>
          <a:stretch/>
        </p:blipFill>
        <p:spPr>
          <a:xfrm>
            <a:off x="4730760" y="1189080"/>
            <a:ext cx="404028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D685F64-4DCA-4793-A0FD-CE59DFF10CC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5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publishing queu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WQS has a PublishService that processes the queu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actions defined: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Tree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and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”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workflows defined that use the action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Queues are published periodically – every minute by default (override with property </a:t>
            </a: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wcmqs.publishQueueProcessor.schedule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node may specify another website node that it publishes 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6" name="Straight Connector 5"/>
          <p:cNvSpPr/>
          <p:nvPr/>
        </p:nvSpPr>
        <p:spPr>
          <a:xfrm>
            <a:off x="8888400" y="2814480"/>
            <a:ext cx="0" cy="3121200"/>
          </a:xfrm>
          <a:prstGeom prst="line">
            <a:avLst/>
          </a:prstGeom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7" name="Picture 3" descr=""/>
          <p:cNvPicPr/>
          <p:nvPr/>
        </p:nvPicPr>
        <p:blipFill>
          <a:blip r:embed="rId2"/>
          <a:stretch/>
        </p:blipFill>
        <p:spPr>
          <a:xfrm>
            <a:off x="3021120" y="4497480"/>
            <a:ext cx="140976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8" name="Title 6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4F3A09-6627-4781-ACCE-9FD444DD519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Override map of available ACP files using a bean named 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i="1" lang="en-GB" sz="1600" spc="-1" strike="noStrike">
                <a:solidFill>
                  <a:srgbClr val="333333"/>
                </a:solidFill>
                <a:latin typeface="Courier New"/>
              </a:rPr>
              <a:t>wqsmodule_siteImportFileLocations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171" name="Picture 2" descr=""/>
          <p:cNvPicPr/>
          <p:nvPr/>
        </p:nvPicPr>
        <p:blipFill>
          <a:blip r:embed="rId2"/>
          <a:stretch/>
        </p:blipFill>
        <p:spPr>
          <a:xfrm>
            <a:off x="339840" y="3105000"/>
            <a:ext cx="6056280" cy="14018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2" name="Picture 3" descr=""/>
          <p:cNvPicPr/>
          <p:nvPr/>
        </p:nvPicPr>
        <p:blipFill>
          <a:blip r:embed="rId3"/>
          <a:stretch/>
        </p:blipFill>
        <p:spPr>
          <a:xfrm>
            <a:off x="4016520" y="1906560"/>
            <a:ext cx="4695840" cy="885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3" name="Picture 4" descr=""/>
          <p:cNvPicPr/>
          <p:nvPr/>
        </p:nvPicPr>
        <p:blipFill>
          <a:blip r:embed="rId4"/>
          <a:stretch/>
        </p:blipFill>
        <p:spPr>
          <a:xfrm>
            <a:off x="771480" y="4935600"/>
            <a:ext cx="7581960" cy="604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A936B30-DC0D-4BBD-88DF-E5B18AEB7EC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176" name="Group 1039"/>
          <p:cNvGrpSpPr/>
          <p:nvPr/>
        </p:nvGrpSpPr>
        <p:grpSpPr>
          <a:xfrm>
            <a:off x="3328920" y="1265400"/>
            <a:ext cx="1851120" cy="3873240"/>
            <a:chOff x="3328920" y="1265400"/>
            <a:chExt cx="1851120" cy="3873240"/>
          </a:xfrm>
        </p:grpSpPr>
        <p:grpSp>
          <p:nvGrpSpPr>
            <p:cNvPr id="1177" name="Rounded Rectangle 20"/>
            <p:cNvGrpSpPr/>
            <p:nvPr/>
          </p:nvGrpSpPr>
          <p:grpSpPr>
            <a:xfrm>
              <a:off x="3328920" y="2755800"/>
              <a:ext cx="1851120" cy="737280"/>
              <a:chOff x="3328920" y="2755800"/>
              <a:chExt cx="1851120" cy="737280"/>
            </a:xfrm>
          </p:grpSpPr>
          <p:pic>
            <p:nvPicPr>
              <p:cNvPr id="1178" name="Rounded Rectangle 20" descr=""/>
              <p:cNvPicPr/>
              <p:nvPr/>
            </p:nvPicPr>
            <p:blipFill>
              <a:blip r:embed="rId2"/>
              <a:stretch/>
            </p:blipFill>
            <p:spPr>
              <a:xfrm>
                <a:off x="3328920" y="275580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9" name=""/>
              <p:cNvSpPr/>
              <p:nvPr/>
            </p:nvSpPr>
            <p:spPr>
              <a:xfrm>
                <a:off x="3438000" y="28839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GB" sz="1600" spc="-1" strike="noStrike">
                    <a:solidFill>
                      <a:srgbClr val="4a452a"/>
                    </a:solidFill>
                    <a:latin typeface="Arial"/>
                    <a:ea typeface="ヒラギノ角ゴ ProN W3"/>
                  </a:rPr>
                  <a:t>WQS API</a:t>
                </a:r>
                <a:endParaRPr b="0" lang="en-US" sz="1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80" name="Group 1023"/>
            <p:cNvGrpSpPr/>
            <p:nvPr/>
          </p:nvGrpSpPr>
          <p:grpSpPr>
            <a:xfrm>
              <a:off x="3406320" y="4329720"/>
              <a:ext cx="1541880" cy="808920"/>
              <a:chOff x="3406320" y="4329720"/>
              <a:chExt cx="1541880" cy="808920"/>
            </a:xfrm>
          </p:grpSpPr>
          <p:grpSp>
            <p:nvGrpSpPr>
              <p:cNvPr id="1181" name="Rounded Rectangle 25"/>
              <p:cNvGrpSpPr/>
              <p:nvPr/>
            </p:nvGrpSpPr>
            <p:grpSpPr>
              <a:xfrm>
                <a:off x="3406320" y="4329720"/>
                <a:ext cx="1541880" cy="808920"/>
                <a:chOff x="3406320" y="4329720"/>
                <a:chExt cx="1541880" cy="808920"/>
              </a:xfrm>
            </p:grpSpPr>
            <p:pic>
              <p:nvPicPr>
                <p:cNvPr id="1182" name="Rounded Rectangle 2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406320" y="4329720"/>
                  <a:ext cx="1541880" cy="808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3" name=""/>
                <p:cNvSpPr/>
                <p:nvPr/>
              </p:nvSpPr>
              <p:spPr>
                <a:xfrm>
                  <a:off x="3511440" y="4434840"/>
                  <a:ext cx="122904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4" name="Picture 5" descr="C:\Users\Brian\Documents\alfresco\devcon2010\alfresco-logo.gif"/>
              <p:cNvPicPr/>
              <p:nvPr/>
            </p:nvPicPr>
            <p:blipFill>
              <a:blip r:embed="rId4"/>
              <a:stretch/>
            </p:blipFill>
            <p:spPr>
              <a:xfrm>
                <a:off x="3544920" y="4523760"/>
                <a:ext cx="1161360" cy="332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85" name="Group 1033"/>
            <p:cNvGrpSpPr/>
            <p:nvPr/>
          </p:nvGrpSpPr>
          <p:grpSpPr>
            <a:xfrm>
              <a:off x="3421800" y="2336760"/>
              <a:ext cx="1541880" cy="395640"/>
              <a:chOff x="3421800" y="2336760"/>
              <a:chExt cx="1541880" cy="395640"/>
            </a:xfrm>
          </p:grpSpPr>
          <p:grpSp>
            <p:nvGrpSpPr>
              <p:cNvPr id="1186" name="Rounded Rectangle 6"/>
              <p:cNvGrpSpPr/>
              <p:nvPr/>
            </p:nvGrpSpPr>
            <p:grpSpPr>
              <a:xfrm>
                <a:off x="3421800" y="2336760"/>
                <a:ext cx="1541880" cy="395640"/>
                <a:chOff x="3421800" y="2336760"/>
                <a:chExt cx="1541880" cy="395640"/>
              </a:xfrm>
            </p:grpSpPr>
            <p:pic>
              <p:nvPicPr>
                <p:cNvPr id="1187" name="Rounded Rectangle 6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421800" y="233676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8" name=""/>
                <p:cNvSpPr/>
                <p:nvPr/>
              </p:nvSpPr>
              <p:spPr>
                <a:xfrm>
                  <a:off x="3512520" y="240660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9" name="Picture 6" descr="C:\Users\Brian\Documents\alfresco\devcon2010\springsource-logo.gif"/>
              <p:cNvPicPr/>
              <p:nvPr/>
            </p:nvPicPr>
            <p:blipFill>
              <a:blip r:embed="rId6"/>
              <a:stretch/>
            </p:blipFill>
            <p:spPr>
              <a:xfrm>
                <a:off x="3510000" y="2423520"/>
                <a:ext cx="1236960" cy="149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90" name="Rounded Rectangle 10"/>
            <p:cNvGrpSpPr/>
            <p:nvPr/>
          </p:nvGrpSpPr>
          <p:grpSpPr>
            <a:xfrm>
              <a:off x="3328920" y="1701360"/>
              <a:ext cx="1851120" cy="737280"/>
              <a:chOff x="3328920" y="1701360"/>
              <a:chExt cx="1851120" cy="737280"/>
            </a:xfrm>
          </p:grpSpPr>
          <p:pic>
            <p:nvPicPr>
              <p:cNvPr id="1191" name="Rounded Rectangle 10" descr=""/>
              <p:cNvPicPr/>
              <p:nvPr/>
            </p:nvPicPr>
            <p:blipFill>
              <a:blip r:embed="rId7"/>
              <a:stretch/>
            </p:blipFill>
            <p:spPr>
              <a:xfrm>
                <a:off x="3328920" y="170136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2" name=""/>
              <p:cNvSpPr/>
              <p:nvPr/>
            </p:nvSpPr>
            <p:spPr>
              <a:xfrm>
                <a:off x="3438000" y="18327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93" name="Group 1024"/>
            <p:cNvGrpSpPr/>
            <p:nvPr/>
          </p:nvGrpSpPr>
          <p:grpSpPr>
            <a:xfrm>
              <a:off x="3421800" y="1265400"/>
              <a:ext cx="1541880" cy="395640"/>
              <a:chOff x="3421800" y="1265400"/>
              <a:chExt cx="1541880" cy="395640"/>
            </a:xfrm>
          </p:grpSpPr>
          <p:grpSp>
            <p:nvGrpSpPr>
              <p:cNvPr id="1194" name="Rounded Rectangle 14"/>
              <p:cNvGrpSpPr/>
              <p:nvPr/>
            </p:nvGrpSpPr>
            <p:grpSpPr>
              <a:xfrm>
                <a:off x="3421800" y="1265400"/>
                <a:ext cx="1541880" cy="395640"/>
                <a:chOff x="3421800" y="1265400"/>
                <a:chExt cx="1541880" cy="395640"/>
              </a:xfrm>
            </p:grpSpPr>
            <p:pic>
              <p:nvPicPr>
                <p:cNvPr id="1195" name="Rounded Rectangle 1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3421800" y="126540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6" name=""/>
                <p:cNvSpPr/>
                <p:nvPr/>
              </p:nvSpPr>
              <p:spPr>
                <a:xfrm>
                  <a:off x="3512520" y="133596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97" name="Picture 8" descr="C:\Users\Brian\Documents\alfresco\devcon2010\freemarker-logo.gif"/>
              <p:cNvPicPr/>
              <p:nvPr/>
            </p:nvPicPr>
            <p:blipFill>
              <a:blip r:embed="rId9"/>
              <a:stretch/>
            </p:blipFill>
            <p:spPr>
              <a:xfrm>
                <a:off x="3695040" y="1383480"/>
                <a:ext cx="866880" cy="964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98" name="Down Arrow 30"/>
            <p:cNvSpPr/>
            <p:nvPr/>
          </p:nvSpPr>
          <p:spPr>
            <a:xfrm>
              <a:off x="3971880" y="3534840"/>
              <a:ext cx="441360" cy="631800"/>
            </a:xfrm>
            <a:prstGeom prst="downArrow">
              <a:avLst>
                <a:gd name="adj1" fmla="val 50000"/>
                <a:gd name="adj2" fmla="val 59420"/>
              </a:avLst>
            </a:prstGeom>
            <a:gradFill rotWithShape="0">
              <a:gsLst>
                <a:gs pos="0">
                  <a:srgbClr val="0085e0"/>
                </a:gs>
                <a:gs pos="100000">
                  <a:srgbClr val="89c2ff"/>
                </a:gs>
              </a:gsLst>
              <a:lin ang="16200000"/>
            </a:gradFill>
            <a:ln w="9360">
              <a:solidFill>
                <a:srgbClr val="007bc3"/>
              </a:solidFill>
              <a:miter/>
            </a:ln>
            <a:effectLst>
              <a:outerShdw dist="63639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199" name="Picture 9" descr="C:\Users\Brian\Documents\alfresco\devcon2010\surf-logo.gif"/>
            <p:cNvPicPr/>
            <p:nvPr/>
          </p:nvPicPr>
          <p:blipFill>
            <a:blip r:embed="rId10"/>
            <a:stretch/>
          </p:blipFill>
          <p:spPr>
            <a:xfrm>
              <a:off x="3842280" y="1848600"/>
              <a:ext cx="669600" cy="323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0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560C1BC-6363-4D99-A234-ECF7104A0FA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Bean “webSiteService” is a good starting point: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grpSp>
        <p:nvGrpSpPr>
          <p:cNvPr id="1203" name="Group 17"/>
          <p:cNvGrpSpPr/>
          <p:nvPr/>
        </p:nvGrpSpPr>
        <p:grpSpPr>
          <a:xfrm>
            <a:off x="5148360" y="1003320"/>
            <a:ext cx="3678120" cy="2128680"/>
            <a:chOff x="5148360" y="1003320"/>
            <a:chExt cx="3678120" cy="2128680"/>
          </a:xfrm>
        </p:grpSpPr>
        <p:pic>
          <p:nvPicPr>
            <p:cNvPr id="1204" name="Picture 5" descr="C:\Users\Brian\Documents\alfresco\cheetah\wcmqs-devguide\wcmqs-basic-model-cropped.png"/>
            <p:cNvPicPr/>
            <p:nvPr/>
          </p:nvPicPr>
          <p:blipFill>
            <a:blip r:embed="rId2"/>
            <a:stretch/>
          </p:blipFill>
          <p:spPr>
            <a:xfrm>
              <a:off x="5148360" y="1003320"/>
              <a:ext cx="3678120" cy="21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5" name="Rectangle 12"/>
            <p:cNvSpPr/>
            <p:nvPr/>
          </p:nvSpPr>
          <p:spPr>
            <a:xfrm>
              <a:off x="563292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6" name="Rectangle 15"/>
            <p:cNvSpPr/>
            <p:nvPr/>
          </p:nvSpPr>
          <p:spPr>
            <a:xfrm>
              <a:off x="725868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7" name="Rectangle 16"/>
            <p:cNvSpPr/>
            <p:nvPr/>
          </p:nvSpPr>
          <p:spPr>
            <a:xfrm>
              <a:off x="6584040" y="2335320"/>
              <a:ext cx="509400" cy="16812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pic>
        <p:nvPicPr>
          <p:cNvPr id="1208" name="Picture 2" descr=""/>
          <p:cNvPicPr/>
          <p:nvPr/>
        </p:nvPicPr>
        <p:blipFill>
          <a:blip r:embed="rId3"/>
          <a:stretch/>
        </p:blipFill>
        <p:spPr>
          <a:xfrm>
            <a:off x="247680" y="3294000"/>
            <a:ext cx="8648640" cy="2641680"/>
          </a:xfrm>
          <a:prstGeom prst="rect">
            <a:avLst/>
          </a:prstGeom>
          <a:ln w="9360">
            <a:solidFill>
              <a:srgbClr val="adada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9" name="Title 1" descr=""/>
          <p:cNvPicPr/>
          <p:nvPr/>
        </p:nvPicPr>
        <p:blipFill>
          <a:blip r:embed="rId1"/>
          <a:stretch/>
        </p:blipFill>
        <p:spPr>
          <a:xfrm>
            <a:off x="0" y="23760"/>
            <a:ext cx="8888400" cy="860400"/>
          </a:xfrm>
          <a:prstGeom prst="rect">
            <a:avLst/>
          </a:prstGeom>
          <a:ln w="0">
            <a:noFill/>
          </a:ln>
        </p:spPr>
      </p:pic>
      <p:sp>
        <p:nvSpPr>
          <p:cNvPr id="121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37A6854-59C0-4FF4-8518-4ED8531F111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1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2" name="Rectangle 4"/>
          <p:cNvSpPr/>
          <p:nvPr/>
        </p:nvSpPr>
        <p:spPr>
          <a:xfrm>
            <a:off x="4381560" y="3979800"/>
            <a:ext cx="388800" cy="19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13" name="Picture 3" descr=""/>
          <p:cNvPicPr/>
          <p:nvPr/>
        </p:nvPicPr>
        <p:blipFill>
          <a:blip r:embed="rId2"/>
          <a:stretch/>
        </p:blipFill>
        <p:spPr>
          <a:xfrm>
            <a:off x="272880" y="923760"/>
            <a:ext cx="8493120" cy="3681720"/>
          </a:xfrm>
          <a:prstGeom prst="rect">
            <a:avLst/>
          </a:prstGeom>
          <a:ln w="0">
            <a:noFill/>
          </a:ln>
        </p:spPr>
      </p:pic>
      <p:pic>
        <p:nvPicPr>
          <p:cNvPr id="1214" name="Group 3" descr=""/>
          <p:cNvPicPr/>
          <p:nvPr/>
        </p:nvPicPr>
        <p:blipFill>
          <a:blip r:embed="rId3"/>
          <a:stretch/>
        </p:blipFill>
        <p:spPr>
          <a:xfrm>
            <a:off x="2382840" y="4224240"/>
            <a:ext cx="41940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1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3615DFF-100D-4F85-B221-7C9184AA6C8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7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Friendly” URLs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quested URL is parsed to find the website, section, and asset that are being address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ww.example.com/news/global/financial_outlook_goo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solved API objects are stored on the request context with the names “website”, “section”, and “asset” for use by page components.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8" name="Straight Connector 10"/>
          <p:cNvSpPr/>
          <p:nvPr/>
        </p:nvSpPr>
        <p:spPr>
          <a:xfrm>
            <a:off x="977760" y="3179880"/>
            <a:ext cx="2497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9" name="Straight Connector 12"/>
          <p:cNvSpPr/>
          <p:nvPr/>
        </p:nvSpPr>
        <p:spPr>
          <a:xfrm>
            <a:off x="3475080" y="3602160"/>
            <a:ext cx="178920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0" name="Straight Connector 15"/>
          <p:cNvSpPr/>
          <p:nvPr/>
        </p:nvSpPr>
        <p:spPr>
          <a:xfrm>
            <a:off x="5264280" y="3179880"/>
            <a:ext cx="3100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1" name="Straight Connector 17"/>
          <p:cNvSpPr/>
          <p:nvPr/>
        </p:nvSpPr>
        <p:spPr>
          <a:xfrm>
            <a:off x="22255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2" name="Straight Connector 19"/>
          <p:cNvSpPr/>
          <p:nvPr/>
        </p:nvSpPr>
        <p:spPr>
          <a:xfrm>
            <a:off x="68137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3" name="Straight Connector 21"/>
          <p:cNvSpPr/>
          <p:nvPr/>
        </p:nvSpPr>
        <p:spPr>
          <a:xfrm>
            <a:off x="4368960" y="3602160"/>
            <a:ext cx="0" cy="17460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4" name="TextBox 25"/>
          <p:cNvSpPr/>
          <p:nvPr/>
        </p:nvSpPr>
        <p:spPr>
          <a:xfrm>
            <a:off x="1786320" y="2735280"/>
            <a:ext cx="86940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websi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5" name="TextBox 26"/>
          <p:cNvSpPr/>
          <p:nvPr/>
        </p:nvSpPr>
        <p:spPr>
          <a:xfrm>
            <a:off x="3934440" y="3730680"/>
            <a:ext cx="82548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sectio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6" name="TextBox 27"/>
          <p:cNvSpPr/>
          <p:nvPr/>
        </p:nvSpPr>
        <p:spPr>
          <a:xfrm>
            <a:off x="6465240" y="2743200"/>
            <a:ext cx="66672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333333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asset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2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E1E8E3-2A5D-4643-82F2-14BB92E1BCD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ired in to respond whenever an asset has been resolv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Discovers the page name to be used to render the asse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Each section may define template mappings from asset type to view name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Searches up the type hierarchy first, then the section hierarchy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3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231" name="Picture 3" descr=""/>
          <p:cNvPicPr/>
          <p:nvPr/>
        </p:nvPicPr>
        <p:blipFill>
          <a:blip r:embed="rId2"/>
          <a:stretch/>
        </p:blipFill>
        <p:spPr>
          <a:xfrm>
            <a:off x="4695840" y="1301760"/>
            <a:ext cx="4132080" cy="3780000"/>
          </a:xfrm>
          <a:prstGeom prst="rect">
            <a:avLst/>
          </a:prstGeom>
          <a:ln w="0">
            <a:noFill/>
          </a:ln>
        </p:spPr>
      </p:pic>
      <p:sp>
        <p:nvSpPr>
          <p:cNvPr id="1232" name="Rectangle 6"/>
          <p:cNvSpPr/>
          <p:nvPr/>
        </p:nvSpPr>
        <p:spPr>
          <a:xfrm>
            <a:off x="4786200" y="3379680"/>
            <a:ext cx="3197160" cy="658800"/>
          </a:xfrm>
          <a:prstGeom prst="rect">
            <a:avLst/>
          </a:prstGeom>
          <a:noFill/>
          <a:ln w="15840">
            <a:solidFill>
              <a:srgbClr val="38ff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3" name="Picture 4" descr=""/>
          <p:cNvPicPr/>
          <p:nvPr/>
        </p:nvPicPr>
        <p:blipFill>
          <a:blip r:embed="rId3"/>
          <a:stretch/>
        </p:blipFill>
        <p:spPr>
          <a:xfrm>
            <a:off x="4813200" y="3409920"/>
            <a:ext cx="310680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21C939-565A-40FA-ABE3-A79075D5194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6" name="Picture 5" descr="C:\Users\Brian\Documents\alfresco\cheetah\wcmqs-devguide\wqs-webapp-sequence1.png"/>
          <p:cNvPicPr/>
          <p:nvPr/>
        </p:nvPicPr>
        <p:blipFill>
          <a:blip r:embed="rId2"/>
          <a:stretch/>
        </p:blipFill>
        <p:spPr>
          <a:xfrm>
            <a:off x="0" y="954000"/>
            <a:ext cx="9144000" cy="48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1DFAA7-0B9E-48D5-886E-B35B75F0661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9" name="Picture 5" descr=""/>
          <p:cNvPicPr/>
          <p:nvPr/>
        </p:nvPicPr>
        <p:blipFill>
          <a:blip r:embed="rId2"/>
          <a:stretch/>
        </p:blipFill>
        <p:spPr>
          <a:xfrm>
            <a:off x="760320" y="1089000"/>
            <a:ext cx="1428840" cy="174312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1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CD42F8B-6D88-4F95-892F-71CD5B3D4B4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0" name="PlaceHolder 1"/>
          <p:cNvSpPr>
            <a:spLocks noGrp="1"/>
          </p:cNvSpPr>
          <p:nvPr>
            <p:ph/>
          </p:nvPr>
        </p:nvSpPr>
        <p:spPr>
          <a:xfrm>
            <a:off x="249120" y="1460160"/>
            <a:ext cx="8639280" cy="44751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 demonstr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 Web Quick Start mod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features in the repository ti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sample web applic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rimary goal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49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o show you how Web Quick Start works so you can start to use it and extend i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249120" y="894960"/>
            <a:ext cx="8639280" cy="53820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7dc3"/>
                </a:solidFill>
                <a:latin typeface="Arial"/>
              </a:rPr>
              <a:t>What we’ll cov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809F4D8-0225-4530-B81A-2ACEB10FFAF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2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3" name="Picture 7" descr=""/>
          <p:cNvPicPr/>
          <p:nvPr/>
        </p:nvPicPr>
        <p:blipFill>
          <a:blip r:embed="rId3"/>
          <a:stretch/>
        </p:blipFill>
        <p:spPr>
          <a:xfrm>
            <a:off x="687240" y="955800"/>
            <a:ext cx="171468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44" name="TextBox 3"/>
          <p:cNvSpPr/>
          <p:nvPr/>
        </p:nvSpPr>
        <p:spPr>
          <a:xfrm>
            <a:off x="3131640" y="144792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ink of “templates” as layouts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with holes cut out (“regions”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DAF96E-7102-459F-AF80-647AAD44C3B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7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8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9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0" name="TextBox 3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1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5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FC0939-207E-4B5E-A3B5-9F3EDB37422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53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4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5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6" name="Picture 9" descr=""/>
          <p:cNvPicPr/>
          <p:nvPr/>
        </p:nvPicPr>
        <p:blipFill>
          <a:blip r:embed="rId5"/>
          <a:stretch/>
        </p:blipFill>
        <p:spPr>
          <a:xfrm>
            <a:off x="833400" y="1816200"/>
            <a:ext cx="1914480" cy="1428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7" name="TextBox 3"/>
          <p:cNvSpPr/>
          <p:nvPr/>
        </p:nvSpPr>
        <p:spPr>
          <a:xfrm>
            <a:off x="2643840" y="3648240"/>
            <a:ext cx="30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or example, there are tw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that ren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rticle details: “article/style1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nd “article/style2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8" name="TextBox 9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36B78C-1661-45E4-BA09-62F5AF4A087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1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2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3" name="Picture 8" descr=""/>
          <p:cNvPicPr/>
          <p:nvPr/>
        </p:nvPicPr>
        <p:blipFill>
          <a:blip r:embed="rId4"/>
          <a:stretch/>
        </p:blipFill>
        <p:spPr>
          <a:xfrm>
            <a:off x="3892680" y="2481120"/>
            <a:ext cx="1638000" cy="38102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4" name="Picture 9" descr=""/>
          <p:cNvPicPr/>
          <p:nvPr/>
        </p:nvPicPr>
        <p:blipFill>
          <a:blip r:embed="rId5"/>
          <a:stretch/>
        </p:blipFill>
        <p:spPr>
          <a:xfrm>
            <a:off x="4092480" y="3341520"/>
            <a:ext cx="1914480" cy="14288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5" name="Picture 6" descr=""/>
          <p:cNvPicPr/>
          <p:nvPr/>
        </p:nvPicPr>
        <p:blipFill>
          <a:blip r:embed="rId6"/>
          <a:stretch/>
        </p:blipFill>
        <p:spPr>
          <a:xfrm>
            <a:off x="760320" y="1073160"/>
            <a:ext cx="1981440" cy="31431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66" name="TextBox 3"/>
          <p:cNvSpPr/>
          <p:nvPr/>
        </p:nvSpPr>
        <p:spPr>
          <a:xfrm>
            <a:off x="602280" y="4373640"/>
            <a:ext cx="2995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nally, pages weav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emplates and component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ogether: a page specifie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 template and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are to fill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regions in that templat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45801B5-906E-487B-AE21-7A6163A9617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9" name="Picture 2" descr=""/>
          <p:cNvPicPr/>
          <p:nvPr/>
        </p:nvPicPr>
        <p:blipFill>
          <a:blip r:embed="rId2"/>
          <a:stretch/>
        </p:blipFill>
        <p:spPr>
          <a:xfrm>
            <a:off x="1940040" y="762120"/>
            <a:ext cx="5010120" cy="54687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0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71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5D97CBB-B269-4076-B0B9-FBDB6367084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3" name="Rectangle 3"/>
          <p:cNvSpPr/>
          <p:nvPr/>
        </p:nvSpPr>
        <p:spPr>
          <a:xfrm>
            <a:off x="1860480" y="1208160"/>
            <a:ext cx="2886120" cy="1350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55B2191-BBEA-4096-A18F-82C9BD0DDED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76" name="Picture 4" descr=""/>
          <p:cNvPicPr/>
          <p:nvPr/>
        </p:nvPicPr>
        <p:blipFill>
          <a:blip r:embed="rId2"/>
          <a:stretch/>
        </p:blipFill>
        <p:spPr>
          <a:xfrm>
            <a:off x="1639800" y="779400"/>
            <a:ext cx="5291280" cy="58993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277" name="TextBox 6"/>
          <p:cNvSpPr/>
          <p:nvPr/>
        </p:nvSpPr>
        <p:spPr>
          <a:xfrm>
            <a:off x="130680" y="95724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ve-block.ftl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8" name="Rectangle 5"/>
          <p:cNvSpPr/>
          <p:nvPr/>
        </p:nvSpPr>
        <p:spPr>
          <a:xfrm>
            <a:off x="1860480" y="1444680"/>
            <a:ext cx="2425680" cy="2286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9" name="Rectangle 7"/>
          <p:cNvSpPr/>
          <p:nvPr/>
        </p:nvSpPr>
        <p:spPr>
          <a:xfrm>
            <a:off x="2013120" y="2085840"/>
            <a:ext cx="2116080" cy="6573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0" name="Rectangle 8"/>
          <p:cNvSpPr/>
          <p:nvPr/>
        </p:nvSpPr>
        <p:spPr>
          <a:xfrm>
            <a:off x="2471760" y="3200400"/>
            <a:ext cx="265284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1" name="Rectangle 9"/>
          <p:cNvSpPr/>
          <p:nvPr/>
        </p:nvSpPr>
        <p:spPr>
          <a:xfrm>
            <a:off x="2082960" y="5413320"/>
            <a:ext cx="2114280" cy="6429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2" name="Rectangle 10"/>
          <p:cNvSpPr/>
          <p:nvPr/>
        </p:nvSpPr>
        <p:spPr>
          <a:xfrm>
            <a:off x="2471760" y="4067280"/>
            <a:ext cx="277020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8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18587C3-E25C-4698-8462-36E8840A52F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85" name="Picture 2" descr=""/>
          <p:cNvPicPr/>
          <p:nvPr/>
        </p:nvPicPr>
        <p:blipFill>
          <a:blip r:embed="rId2"/>
          <a:stretch/>
        </p:blipFill>
        <p:spPr>
          <a:xfrm>
            <a:off x="1874880" y="781200"/>
            <a:ext cx="5010120" cy="54702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286" name="Rectangle 4"/>
          <p:cNvSpPr/>
          <p:nvPr/>
        </p:nvSpPr>
        <p:spPr>
          <a:xfrm>
            <a:off x="1990800" y="1344600"/>
            <a:ext cx="4770360" cy="14637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ellyband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7" name="Rectangle 8"/>
          <p:cNvSpPr/>
          <p:nvPr/>
        </p:nvSpPr>
        <p:spPr>
          <a:xfrm>
            <a:off x="1990800" y="2863800"/>
            <a:ext cx="3141720" cy="18813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8" name="Rectangle 9"/>
          <p:cNvSpPr/>
          <p:nvPr/>
        </p:nvSpPr>
        <p:spPr>
          <a:xfrm>
            <a:off x="5253120" y="2863800"/>
            <a:ext cx="1508040" cy="14558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righ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9" name="Rectangle 10"/>
          <p:cNvSpPr/>
          <p:nvPr/>
        </p:nvSpPr>
        <p:spPr>
          <a:xfrm>
            <a:off x="1990800" y="48531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0" name="Rectangle 11"/>
          <p:cNvSpPr/>
          <p:nvPr/>
        </p:nvSpPr>
        <p:spPr>
          <a:xfrm>
            <a:off x="3560760" y="4861080"/>
            <a:ext cx="157176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1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92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6C074A1-CE5B-4409-B0D4-A42068B6982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4" name="Rectangle 5"/>
          <p:cNvSpPr/>
          <p:nvPr/>
        </p:nvSpPr>
        <p:spPr>
          <a:xfrm>
            <a:off x="1982880" y="2449440"/>
            <a:ext cx="2636640" cy="843120"/>
          </a:xfrm>
          <a:prstGeom prst="rect">
            <a:avLst/>
          </a:prstGeom>
          <a:solidFill>
            <a:srgbClr val="ff0000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5" name="TextBox 3"/>
          <p:cNvSpPr/>
          <p:nvPr/>
        </p:nvSpPr>
        <p:spPr>
          <a:xfrm>
            <a:off x="4773960" y="2185920"/>
            <a:ext cx="22168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For example, the region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left1” is populated b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component “list/wide”.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is component accepts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 property named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collection” – in this case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value of that propert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is being set to “news.top”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6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7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35FCD2-72BF-46EB-919E-BC786016E8C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8" name="Rectangle 10"/>
          <p:cNvSpPr/>
          <p:nvPr/>
        </p:nvSpPr>
        <p:spPr>
          <a:xfrm>
            <a:off x="2098800" y="48513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9" name="Rectangle 11"/>
          <p:cNvSpPr/>
          <p:nvPr/>
        </p:nvSpPr>
        <p:spPr>
          <a:xfrm>
            <a:off x="3670200" y="4859280"/>
            <a:ext cx="1569960" cy="10400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0" name="Picture 5" descr=""/>
          <p:cNvPicPr/>
          <p:nvPr/>
        </p:nvPicPr>
        <p:blipFill>
          <a:blip r:embed="rId2"/>
          <a:stretch/>
        </p:blipFill>
        <p:spPr>
          <a:xfrm>
            <a:off x="179280" y="936720"/>
            <a:ext cx="7467840" cy="1807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1" name="Picture 7" descr=""/>
          <p:cNvPicPr/>
          <p:nvPr/>
        </p:nvPicPr>
        <p:blipFill>
          <a:blip r:embed="rId3"/>
          <a:stretch/>
        </p:blipFill>
        <p:spPr>
          <a:xfrm>
            <a:off x="179280" y="1685880"/>
            <a:ext cx="8550360" cy="4389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302" name="TextBox 6"/>
          <p:cNvSpPr/>
          <p:nvPr/>
        </p:nvSpPr>
        <p:spPr>
          <a:xfrm>
            <a:off x="5497920" y="631800"/>
            <a:ext cx="218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js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3" name="TextBox 16"/>
          <p:cNvSpPr/>
          <p:nvPr/>
        </p:nvSpPr>
        <p:spPr>
          <a:xfrm>
            <a:off x="5121360" y="1384200"/>
            <a:ext cx="258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html.ftl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4" name="TextBox 3"/>
          <p:cNvSpPr/>
          <p:nvPr/>
        </p:nvSpPr>
        <p:spPr>
          <a:xfrm>
            <a:off x="4383360" y="2643120"/>
            <a:ext cx="4073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“list/wide” component loads the named asse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collection (“news.top” in this example), and then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renders information about each asset in tha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sset collec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2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285920"/>
          </a:xfrm>
          <a:prstGeom prst="rect">
            <a:avLst/>
          </a:prstGeom>
          <a:ln w="0">
            <a:noFill/>
          </a:ln>
        </p:spPr>
      </p:pic>
      <p:sp>
        <p:nvSpPr>
          <p:cNvPr id="112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86926EE-1DA3-406D-BFAC-DF7F23BB68C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/>
          </p:nvPr>
        </p:nvSpPr>
        <p:spPr>
          <a:xfrm>
            <a:off x="429840" y="1450800"/>
            <a:ext cx="8386920" cy="835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30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46021B-A8F1-43B0-9B37-D769F6DEC40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7" name="Picture 4" descr=""/>
          <p:cNvPicPr/>
          <p:nvPr/>
        </p:nvPicPr>
        <p:blipFill>
          <a:blip r:embed="rId2"/>
          <a:stretch/>
        </p:blipFill>
        <p:spPr>
          <a:xfrm>
            <a:off x="2476440" y="1028880"/>
            <a:ext cx="3895920" cy="43434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8" name="Picture 2" descr=""/>
          <p:cNvPicPr/>
          <p:nvPr/>
        </p:nvPicPr>
        <p:blipFill>
          <a:blip r:embed="rId3"/>
          <a:stretch/>
        </p:blipFill>
        <p:spPr>
          <a:xfrm>
            <a:off x="1982880" y="779400"/>
            <a:ext cx="5010120" cy="5470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309" name="Rectangle 8"/>
          <p:cNvSpPr/>
          <p:nvPr/>
        </p:nvSpPr>
        <p:spPr>
          <a:xfrm>
            <a:off x="2098800" y="2862360"/>
            <a:ext cx="3141360" cy="188100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0" name="Title 7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963720"/>
          </a:xfrm>
          <a:prstGeom prst="rect">
            <a:avLst/>
          </a:prstGeom>
          <a:ln w="0">
            <a:noFill/>
          </a:ln>
        </p:spPr>
      </p:pic>
      <p:sp>
        <p:nvSpPr>
          <p:cNvPr id="131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2DB54D-D7AA-4B75-A658-59386FA4859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/>
          </p:nvPr>
        </p:nvSpPr>
        <p:spPr>
          <a:xfrm>
            <a:off x="429840" y="906120"/>
            <a:ext cx="8386920" cy="7714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 fontScale="68000"/>
          </a:bodyPr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iki.alfresco.com/wiki/Web_Quick_Star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forums.alfresco.com/en/viewforum.php?f=52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witter: @Alfresco, @brian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13" name="Picture 1" descr=""/>
          <p:cNvPicPr/>
          <p:nvPr/>
        </p:nvPicPr>
        <p:blipFill>
          <a:blip r:embed="rId2"/>
          <a:stretch/>
        </p:blipFill>
        <p:spPr>
          <a:xfrm>
            <a:off x="1106640" y="2089080"/>
            <a:ext cx="3966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2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C3B878-1B03-46E8-B85B-32B09784C65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27" name="Picture 5" descr="C:\Users\Brian\Documents\alfresco\cheetah\wcmqs-devguide\wcmqs-basic-model-cropped.png"/>
          <p:cNvPicPr/>
          <p:nvPr/>
        </p:nvPicPr>
        <p:blipFill>
          <a:blip r:embed="rId2"/>
          <a:stretch/>
        </p:blipFill>
        <p:spPr>
          <a:xfrm>
            <a:off x="487440" y="779400"/>
            <a:ext cx="8169120" cy="5211720"/>
          </a:xfrm>
          <a:prstGeom prst="rect">
            <a:avLst/>
          </a:prstGeom>
          <a:ln w="0">
            <a:noFill/>
          </a:ln>
        </p:spPr>
      </p:pic>
      <p:sp>
        <p:nvSpPr>
          <p:cNvPr id="1128" name="TextBox 3"/>
          <p:cNvSpPr/>
          <p:nvPr/>
        </p:nvSpPr>
        <p:spPr>
          <a:xfrm>
            <a:off x="1695960" y="190188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sit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9" name="TextBox 5"/>
          <p:cNvSpPr/>
          <p:nvPr/>
        </p:nvSpPr>
        <p:spPr>
          <a:xfrm>
            <a:off x="3441960" y="1881360"/>
            <a:ext cx="95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roo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0" name="TextBox 6"/>
          <p:cNvSpPr/>
          <p:nvPr/>
        </p:nvSpPr>
        <p:spPr>
          <a:xfrm>
            <a:off x="5343480" y="188136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s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1" name="TextBox 7"/>
          <p:cNvSpPr/>
          <p:nvPr/>
        </p:nvSpPr>
        <p:spPr>
          <a:xfrm>
            <a:off x="6683040" y="4216320"/>
            <a:ext cx="172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Coll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2" name="TextBox 8"/>
          <p:cNvSpPr/>
          <p:nvPr/>
        </p:nvSpPr>
        <p:spPr>
          <a:xfrm>
            <a:off x="3767040" y="4216320"/>
            <a:ext cx="105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3" name="TextBox 9"/>
          <p:cNvSpPr/>
          <p:nvPr/>
        </p:nvSpPr>
        <p:spPr>
          <a:xfrm>
            <a:off x="3573360" y="5732640"/>
            <a:ext cx="147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visitorFeedback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5E5197F-538C-4358-88E3-1B94BD7624F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6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Groups of assets that are uniquely named within the scope of a particular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Stat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Editor control over which assets are includ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Dynam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onfigured with a search query, maximum number of results, and a refresh period in minutes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The query is executed periodically (as configured), and the results are placed in the asset collection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MIS and Lucene support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37" name="Picture 3" descr=""/>
          <p:cNvPicPr/>
          <p:nvPr/>
        </p:nvPicPr>
        <p:blipFill>
          <a:blip r:embed="rId2"/>
          <a:stretch/>
        </p:blipFill>
        <p:spPr>
          <a:xfrm>
            <a:off x="5214960" y="1058760"/>
            <a:ext cx="2790720" cy="158112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38" name="Picture 4" descr=""/>
          <p:cNvPicPr/>
          <p:nvPr/>
        </p:nvPicPr>
        <p:blipFill>
          <a:blip r:embed="rId3"/>
          <a:stretch/>
        </p:blipFill>
        <p:spPr>
          <a:xfrm>
            <a:off x="5138640" y="3067200"/>
            <a:ext cx="3009960" cy="2647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95B944-B5DE-4344-A8F3-0EF8222A898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1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2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C0080CE-AF15-4C22-AC50-58E03E10815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5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6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47" name="Picture 3" descr=""/>
          <p:cNvPicPr/>
          <p:nvPr/>
        </p:nvPicPr>
        <p:blipFill>
          <a:blip r:embed="rId3"/>
          <a:stretch/>
        </p:blipFill>
        <p:spPr>
          <a:xfrm>
            <a:off x="415800" y="3322800"/>
            <a:ext cx="6689880" cy="59688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AA05AFB-8C15-481E-9608-AC6A02C9048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0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1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2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CE903CA-EE60-4778-9DBC-EB03354DA34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4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5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56" name="Picture 2" descr=""/>
          <p:cNvPicPr/>
          <p:nvPr/>
        </p:nvPicPr>
        <p:blipFill>
          <a:blip r:embed="rId3"/>
          <a:stretch/>
        </p:blipFill>
        <p:spPr>
          <a:xfrm>
            <a:off x="179280" y="1131840"/>
            <a:ext cx="8829720" cy="471636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14:57:41Z</dcterms:created>
  <dc:creator>Linton Baddeley</dc:creator>
  <dc:description/>
  <dc:language>en-US</dc:language>
  <cp:lastModifiedBy>Brian Remmington</cp:lastModifiedBy>
  <cp:lastPrinted>2011-09-06T09:51:35Z</cp:lastPrinted>
  <dcterms:modified xsi:type="dcterms:W3CDTF">2011-09-09T08:28:58Z</dcterms:modified>
  <cp:revision>223</cp:revision>
  <dc:subject/>
  <dc:title>Slide 1</dc:title>
</cp:coreProperties>
</file>