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86FBD-F02B-4ACB-AE16-7010DEF2C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36B4-2E11-430F-96E1-C9E1DC17A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664DC-2379-43F2-B7AD-BB5DABFF3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855E-F5BC-44ED-A781-2B51B893E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EC4-733D-4A06-BD75-8C6055BAE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2D70-78C9-4E65-BCE9-F88690982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69770-443F-49BD-AF4E-5E49D231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66BF-CA56-433D-A5B0-9D8532F7C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296B-CB85-4BA6-B7A1-4DFE35996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6795-42A2-40B3-84B8-B9AEA3816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DF5C5-9743-4A74-B384-E11AF0641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836C-7FE8-4CD9-B24B-AAE14C1E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96430-D3CF-4AEB-B5D4-2A2A9D15808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09Z</dcterms:modified>
  <cp:revision>4</cp:revision>
  <dc:subject/>
  <dc:title>Test content</dc:title>
</cp:coreProperties>
</file>