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A531-B561-4A54-833D-E2000F156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753E1-8FA2-4D8A-9026-A5897158D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86EF2-D7F3-43FD-B4A7-B6289C306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8E71-ADDE-424D-89C2-694D23F1C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53212-48F9-4CD9-B1FB-E31E3CBC82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4AD3F-7CB7-4C02-B393-AC3829165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00B9B-0608-436F-B562-565D2DCF5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1F0-B4A1-4686-89AE-025324180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0C43-6302-42B2-B7E3-F59A31930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81830-2590-49DB-9DEF-4197C30EE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3DD4D-C6EB-4B0B-ADEE-0A6465DC8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F19F-9718-4209-89EC-27FFF528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BEF01-3743-4B82-B2D1-A84AAF0C1A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40:28Z</dcterms:modified>
  <cp:revision>5</cp:revision>
  <dc:subject/>
  <dc:title>Test content</dc:title>
</cp:coreProperties>
</file>