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B94D4-2D9C-48AE-B8C5-E9244E6B07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CE72A-FAD3-4529-BE00-A1652131A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EAF2D-DCAC-44BD-ADF6-C3C6342C6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970F6-0103-4564-A268-92329EB79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27A2-1F73-40D4-8490-346D718EF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D25C-7872-4D63-9E6E-45E1A0C61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9C4AE-D313-46A7-86A5-60198946F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65300-3AA6-47C4-87EC-C5F367293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8424C-356F-4AEC-AA96-D40DAAF8A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11AB-C5CC-4136-8E1A-CA3CB8292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CBE-28BF-4562-BDBF-7B87D6D65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27CD-46A9-40AB-817C-34EE35A70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E6AB-2FE2-402F-9777-83218838E96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2</cp:lastModifiedBy>
  <dcterms:modified xsi:type="dcterms:W3CDTF">2013-08-30T08:28:15Z</dcterms:modified>
  <cp:revision>3</cp:revision>
  <dc:subject/>
  <dc:title>Test content</dc:title>
</cp:coreProperties>
</file>