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F226-9B4E-4384-8EBF-80BA84F4A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CF861-DAA0-4C20-840E-B61A9ABF4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C003-9413-46BC-868D-C935876EF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472A7-223D-42A8-8181-F22EB2806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D1F5C-BBE9-43B8-9C69-7884CECEA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4E18-FE14-4C41-8240-74A4F8799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2F7AC-A670-4268-8541-B06E2B406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35FB-F23D-4246-AACB-8B7562D93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FF60-D910-430D-9487-6C9EAB03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202F-AAAD-432E-B09F-1E1F00138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A42C-4659-4861-9D43-E896DF18C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D4911-E702-41CF-8C54-49F424F07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A3BD0-A669-4B50-BE7D-C1B0FFB581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cont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est cont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30T07:37:30Z</dcterms:created>
  <dc:creator>user1</dc:creator>
  <dc:description/>
  <dc:language>en-US</dc:language>
  <cp:lastModifiedBy>user1</cp:lastModifiedBy>
  <dcterms:modified xsi:type="dcterms:W3CDTF">2013-08-30T07:39:41Z</dcterms:modified>
  <cp:revision>3</cp:revision>
  <dc:subject/>
  <dc:title>Test content</dc:title>
</cp:coreProperties>
</file>