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923A-DA56-457D-94D9-E6F994BBF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4CF1-B8B1-40A5-AAD4-F480FD1773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FBA9-07BB-4058-AB32-2BCF3CE89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A8BA-1428-48C2-9FD4-5ADBD6763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4C39-412B-4F75-873A-DF053FDC0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CF3FF-8E0B-4262-A3C7-2B3C36702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B352-C02F-4E24-A3CD-1178C9D6D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71AB-BE3E-4E5C-99B7-2C86867D2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3846B-861C-4066-8626-EBD1FE84E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91A71-F04B-4D98-95D6-EFCC23654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CC78-23D6-4DFA-B42E-A6824DA46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F9376-53B8-49B1-8B8D-979AE9FA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84065-BC87-4AAA-803A-C0B928AEDE4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8:36Z</dcterms:modified>
  <cp:revision>1</cp:revision>
  <dc:subject/>
  <dc:title>Test content</dc:title>
</cp:coreProperties>
</file>