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5F235-4EA5-400E-B6EF-90C88B227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3FB-A92E-44E4-B163-DA50A38B9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A871-3AC4-4C53-903B-15153A8DD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71F0-87C8-4867-819C-D8C8E3D90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81EA5-5A3E-44FA-8628-515D35B0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4CFB-8C05-401B-A6BB-B9D520F48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1958-F6CE-493E-8A99-ECC556A8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EBEAE-6B3E-44E6-9D68-6CE7BEDE8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1DA64-FBD9-47C7-856D-DB6977E5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23D-9F4A-42BF-A5A8-F84F6D919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CD04-1B0F-4EBA-A094-B9C63DCF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1C937-C637-4133-B555-441953D8B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215B7-6F9A-430E-AB99-AE7F0DF8EB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Derek Hulley</cp:lastModifiedBy>
  <dcterms:modified xsi:type="dcterms:W3CDTF">2005-09-20T18:23:41Z</dcterms:modified>
  <cp:revision>3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