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77A84-B0D7-430A-BA72-11017827F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948B2-9508-4531-9E7A-65E7C3D9C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9ECA2-92FB-4B0C-A67A-BEF0F0AD5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7319C-A588-475E-B182-49EA8B8CB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74924-A326-4001-AC81-F24297792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79DE2-3D95-4DB3-92B2-8DB4AD5EC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517F4-EEF9-40FB-832C-6EC68E2E7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A0D50-AA89-4342-8D70-B4FAEA8B8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D87F8-6760-4498-BF72-23478EEA2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1769A-2E35-4F57-BBA2-653508D21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A1A2A-32FF-4443-AC1A-01AA2A36F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E33FF-F894-44FA-8357-F7C458BD0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48AED-9F90-432B-8C94-A1AE3C4757A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9:41Z</dcterms:modified>
  <cp:revision>3</cp:revision>
  <dc:subject/>
  <dc:title>Test content</dc:title>
</cp:coreProperties>
</file>