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38C51-322A-4DE2-BA97-0F80AA372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220E0-34E9-48E6-B2DD-E2D62F9AC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770CA-FF71-4E77-96B5-1C6CF5694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3C361-AB2F-4576-8851-A7F97DF69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BCFB4-5F50-4769-8A80-A21F9FE12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27E12-BCDE-4D21-B606-FC047D4E7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1E0DF-E96D-4FF7-9A34-C42FC5740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205A6-D7F3-4EC6-8B57-415337237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F1CE6-1943-455D-B5A6-5711B5716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464C9-564B-4982-98D2-433744C56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9085C-9415-44C8-938F-A8F1E634B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FB958-DED5-4485-AFAE-25038AD5B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BC8A2-FDC2-4F46-B7BE-32000C769FE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09Z</dcterms:modified>
  <cp:revision>4</cp:revision>
  <dc:subject/>
  <dc:title>Test content</dc:title>
</cp:coreProperties>
</file>