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AE720-DB2A-46DD-83E1-959985D29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0E859-1053-4C73-BD50-3DE5C309F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F5F60-AB48-42D7-9EA9-656345C89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F3F3C-7C06-4A63-B041-D41F854D7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E9DC9-1C8C-440B-A81A-8E8E18994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E24FA-D21B-4AFB-9673-DEE5E8836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EA42E-1CC2-4EE6-B0D9-0AF967D2F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C5C38-8D10-49A7-92F9-211AD728A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30CC4-61FB-4FF4-8048-1955EA24B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ACFB0-DF95-4721-8FC2-B26E85B19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82779-C1BD-48BE-B7EC-18344E598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6BEAA-7677-48BE-A281-6286CAC33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AFE8D-D6C7-4C93-A00D-D46276E1AD6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2</cp:lastModifiedBy>
  <dcterms:modified xsi:type="dcterms:W3CDTF">2013-08-30T08:28:15Z</dcterms:modified>
  <cp:revision>3</cp:revision>
  <dc:subject/>
  <dc:title>Test content</dc:title>
</cp:coreProperties>
</file>